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602-6E58-4BEC-8552-C9BFFB87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339-734C-48F2-A0A3-3253B8A6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491-A2C9-4D56-8DBC-3444000F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5D0-85BD-42EC-9917-CE55A83B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487-C636-4E6B-830B-F2FF67A5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363-ADC6-47BE-B9FB-99B66D0C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BBB-10BC-4C3F-A754-508C0EF0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3BE-E1DD-4B3C-A7E5-A7677D82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9CF-390A-4EFC-83C6-C2CA56DB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127-6599-4406-B808-46B93BF3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07A-2FEC-4CFD-8848-1BD39A87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AAE-A324-426B-A610-C47D5E65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08EC-0BA8-4638-8891-3340F335DD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3F57-A73B-4983-979C-8DEC0DCDA6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338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«ШАХМАТЫ – ШКОЛЕ»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1994 – 201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9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Издатель: учебно-методическое объединение «Духовное возрождение»,  г. Обн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05000"/>
            <a:ext cx="6400800" cy="216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Автор: И.Г.Сухин, Институт стратегии развития образования РАО, 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93F8-E312-4EE9-AD3C-E3BE0E5049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первы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первы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4, №9) и «Вестник образования» (1994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 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перв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1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8813-8BE4-431B-BEEE-713A96636A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Учебник для начальной школы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32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Учебник для начальной школы, первый год обучения» (1998, 2009, 2011-2012, 2014, 2017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1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2009 г. издаётся в двух ч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6" descr="Сухин_Шахматы_1год_учебник2017_1часть20пр.jpg"/>
          <p:cNvPicPr/>
          <p:nvPr/>
        </p:nvPicPr>
        <p:blipFill>
          <a:blip r:embed="rId1"/>
          <a:stretch/>
        </p:blipFill>
        <p:spPr>
          <a:xfrm>
            <a:off x="3564000" y="2374920"/>
            <a:ext cx="264456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Сухин_Шахматы_1год_учебник2017_2часть20пр.jpg"/>
          <p:cNvPicPr/>
          <p:nvPr/>
        </p:nvPicPr>
        <p:blipFill>
          <a:blip r:embed="rId2"/>
          <a:stretch/>
        </p:blipFill>
        <p:spPr>
          <a:xfrm>
            <a:off x="6372360" y="2349360"/>
            <a:ext cx="2636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F85F-8607-4F67-B59D-33C27A7765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ый в мировой практике учебник  шахматной игры, написанный специально для начальной общеобразовате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 содержит самый элементарный шахматный материал, который закрепляется большим количеством уникальных дидактических игр и зад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мотря на то, что учебник создавался для первого класса начальной школы, его можно использовать на начальном этапе обучения и в других классах школы 1-й ступени, а также в подготовительной к школе группе детского сада. Это обеспечивается тем, что в каждом типе дидактических заданий и игр есть задачи разного уровня сл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входит в учебно-методический комплект «Шахматы, первый год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558F-BF39-48CC-A92E-2194BFD4F0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Учусь и учу» (1999, 2011, 2015, 201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ДВ_обложка_1год-пособие-2019_20пр.jpg"/>
          <p:cNvPicPr/>
          <p:nvPr/>
        </p:nvPicPr>
        <p:blipFill>
          <a:blip r:embed="rId1"/>
          <a:stretch/>
        </p:blipFill>
        <p:spPr>
          <a:xfrm>
            <a:off x="5410080" y="1916280"/>
            <a:ext cx="2833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4670-293D-403A-9A99-E1C17E51F5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книга</a:t>
            </a:r>
            <a:r>
              <a:rPr b="1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ое в мировой практике шахматное пособие для учителей начальных классов, не обладающих большими знаниями в области шахмат. Данное пособие разработано к учебнику для первого года обучения «Шахматы, первый год, или Там клетки черно-белые чудес и тайн пол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подробно изложена методика проведения каждого уро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 начале каждой главы-урока учителю объясняются необходимые шахматные сведения. Обилие в пособии занимательных заданий, увлекательных дидактических игр позволит педагогу сделать каждое занятие праздником для ребя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адресована учителям начальных классов, воспитателям подготовительных групп детского сада, тренерам-преподавателям, а также родител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3E2D-7C08-4786-BAC8-28E425B40A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52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1» (2004, 20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3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2» (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Сухин_Шахматы_1год_рабтетрадь2017_1часть15пр.jpg"/>
          <p:cNvPicPr/>
          <p:nvPr/>
        </p:nvPicPr>
        <p:blipFill>
          <a:blip r:embed="rId1"/>
          <a:stretch/>
        </p:blipFill>
        <p:spPr>
          <a:xfrm>
            <a:off x="3551400" y="2708280"/>
            <a:ext cx="2525400" cy="34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Сухин_Шахматы_1год_рабтетрадь2017_2часть15пр.jpg"/>
          <p:cNvPicPr/>
          <p:nvPr/>
        </p:nvPicPr>
        <p:blipFill>
          <a:blip r:embed="rId2"/>
          <a:stretch/>
        </p:blipFill>
        <p:spPr>
          <a:xfrm>
            <a:off x="6372360" y="2698920"/>
            <a:ext cx="2520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7B18-2D45-49FD-B5D4-5ED089642B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первый год», учебнику  «Шахматы, первый год, или Там клетки чёрно-белые чудес и тайн полны», пособию для учителя «Шахматы, первы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1D3D-52A5-4836-855E-2577B8E705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Тетрадь для проверочных работ» (2005-2006, 2008, 2010-2011, 2013, 2014, 2016-20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6" descr="ДВ_обложка_1год-тетрадь_провер-2019_20пр.jpg"/>
          <p:cNvPicPr/>
          <p:nvPr/>
        </p:nvPicPr>
        <p:blipFill>
          <a:blip r:embed="rId1"/>
          <a:stretch/>
        </p:blipFill>
        <p:spPr>
          <a:xfrm>
            <a:off x="5580000" y="1825560"/>
            <a:ext cx="28796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6576-3DAE-4DB9-AE2E-3C4291FEF0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из 15-ти проверочных работ содержит 16 вопросов (заданий), рассчитана на 10-1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FF57-B24E-4710-B77F-D90CF043A4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Первый год обучения. 1500 малофигурных позиций» (2012, 2016, 2017, 20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чани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ервоначальное название задачника - «Шахматы, первый год. Задачник, мат в один ход. 1500 малофигурных позиций» (2006-2007, 2009, 20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ДВ_обложка_1год-задачник2019_20пр.jpg"/>
          <p:cNvPicPr/>
          <p:nvPr/>
        </p:nvPicPr>
        <p:blipFill>
          <a:blip r:embed="rId1"/>
          <a:stretch/>
        </p:blipFill>
        <p:spPr>
          <a:xfrm>
            <a:off x="5483160" y="1916280"/>
            <a:ext cx="297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CBD8-E014-4B64-8F7D-F48394038B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«Шахматы - школ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6781680" y="3618000"/>
            <a:ext cx="23432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Сухин_Шахматы_1год_учебник2017_1часть20пр.jpg"/>
          <p:cNvPicPr/>
          <p:nvPr/>
        </p:nvPicPr>
        <p:blipFill>
          <a:blip r:embed="rId2"/>
          <a:stretch/>
        </p:blipFill>
        <p:spPr>
          <a:xfrm>
            <a:off x="2178000" y="3621240"/>
            <a:ext cx="2394000" cy="323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Сухин_Шахматы_2год_учебник2017_1часть20пр.jpg"/>
          <p:cNvPicPr/>
          <p:nvPr/>
        </p:nvPicPr>
        <p:blipFill>
          <a:blip r:embed="rId3"/>
          <a:stretch/>
        </p:blipFill>
        <p:spPr>
          <a:xfrm>
            <a:off x="4541760" y="538200"/>
            <a:ext cx="2262240" cy="3106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108000" y="623880"/>
            <a:ext cx="2087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7A14-0409-425B-9B1A-37360FF576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ние объявить противнику мат – основа шахматного искусства. Однако в море шахматной литературы незаслуженно забытой оказалась важнейшая ступень обучения – задачи на мат в один ход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задачник включён материал, соответствующий Программе «Шахматы, первый год», учебнику  для школьников «Шахматы, первый год, или Там клетки чёрно-белые чудес и тайн полны» и пособию для учителя «Шахматы, первый год, или Учусь и учу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борнике 1500 задач: 1242 чётко структурированные трёх-, четырёх- и пятифигурные позиции-схемы, охватывающие все типичные матовые конструкции для данного количества фигур и практикум из 258 учебных положе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F1BD-5FCD-453B-8958-F875F87578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второ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второ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5, №8) и «Вестник образования» (1995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втор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2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FA9B-9373-4790-8D60-CE9C4E7280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916280"/>
            <a:ext cx="3416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Учебник для начальной школы, второй год обучения» (2003, 2007, 2008-2009, 2011, 2014, 2017, 2019).  С 2008 года издаётся в двух ча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6" descr="Сухин_Шахматы_2год_учебник2017_1часть20пр.jpg"/>
          <p:cNvPicPr/>
          <p:nvPr/>
        </p:nvPicPr>
        <p:blipFill>
          <a:blip r:embed="rId1"/>
          <a:stretch/>
        </p:blipFill>
        <p:spPr>
          <a:xfrm>
            <a:off x="3276720" y="2335320"/>
            <a:ext cx="2735280" cy="3757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Сухин_Шахматы_2год_учебник2017_2часть_20пр.jpg"/>
          <p:cNvPicPr/>
          <p:nvPr/>
        </p:nvPicPr>
        <p:blipFill>
          <a:blip r:embed="rId2"/>
          <a:stretch/>
        </p:blipFill>
        <p:spPr>
          <a:xfrm>
            <a:off x="6284880" y="2349360"/>
            <a:ext cx="275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F131-8431-4EAF-ABA1-86C4E0F6E6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ом «Шахматы, первый год, или Там клетки чёрно-белые чудес и тайн полны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второго класса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второй год, или Играем и выигрываем» разработано методическое пособие для учителя (и родителей) «Шахматы: второй год, или Учусь и учу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72A7-1CEC-4131-905D-728C962EA1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второй год, или Учусь и учу» (2004, 2008, 2012, 20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1"/>
          <a:stretch/>
        </p:blipFill>
        <p:spPr>
          <a:xfrm>
            <a:off x="5334120" y="2057400"/>
            <a:ext cx="2795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85ED-0E09-4F62-83BF-88971FAE97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данном пособии объясняется, как учителю с минимальной шахматной подготовкой проводить занятия с учениками второго года обучения по учебнику «Шахматы, второй год, или Играем и выигрываем». Пособие будет интересно и родителям, помогающим своим детям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, сделаны необходимые разъяс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детально описывается каждый из 33 уроков, приводится большая часть заданий из учебника с решения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148F-34B4-41ED-BFC1-CE503AC6D2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916280"/>
            <a:ext cx="3558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1» (2005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2» (2006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1"/>
          <a:stretch/>
        </p:blipFill>
        <p:spPr>
          <a:xfrm>
            <a:off x="3851280" y="267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ДВ_Рабтетрадь_2класс_2часть_20пр.jpg"/>
          <p:cNvPicPr/>
          <p:nvPr/>
        </p:nvPicPr>
        <p:blipFill>
          <a:blip r:embed="rId2"/>
          <a:stretch/>
        </p:blipFill>
        <p:spPr>
          <a:xfrm>
            <a:off x="6516720" y="2678040"/>
            <a:ext cx="2448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E2A9-4E81-421D-8B50-5DAA2E6535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второй год», учебнику  для школьников «Шахматы, второй год, или Играем и выигрываем» и пособию для учителя «Шахматы, второй год, или Учусь и уч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второго года обучения в любом классе начальной школы. В случае применения тетрадей в первом классе не обязательно выполнять задания, связанные с использованием шахматной нотации и записью, а решения большей части задач можно показывать только стрел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B36D-2044-4F92-A0BA-A9118309E6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Тетрадь для проверочных работ» (2008, 2013, 2015, 201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9" descr="D:\Мои документы\Мои рисунки\Новые фото книг\ДВ_2год_провер30.jpg"/>
          <p:cNvPicPr/>
          <p:nvPr/>
        </p:nvPicPr>
        <p:blipFill>
          <a:blip r:embed="rId1"/>
          <a:stretch/>
        </p:blipFill>
        <p:spPr>
          <a:xfrm>
            <a:off x="5076720" y="1974960"/>
            <a:ext cx="2590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5300-5266-4066-B882-687E7A3D76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второ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61E8-E8F3-4694-827A-43933FFD97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60-е годы ХХ века было установлено, что </a:t>
            </a:r>
            <a:r>
              <a:rPr b="1" i="1" lang="ru-RU" sz="2200" spc="-1" strike="noStrike">
                <a:solidFill>
                  <a:srgbClr val="00cc99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D945-BA8C-4757-8DB7-6EB5CE839B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Второй год обучения» (2012, 2015, 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Мои документы\Задачник_2_год_25пр.jpg"/>
          <p:cNvPicPr/>
          <p:nvPr/>
        </p:nvPicPr>
        <p:blipFill>
          <a:blip r:embed="rId1"/>
          <a:stretch/>
        </p:blipFill>
        <p:spPr>
          <a:xfrm>
            <a:off x="5003640" y="1887480"/>
            <a:ext cx="3009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32B6-A121-45DE-9608-631BFDB0FB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трети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трети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7, №10) и Образование» (1998, №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Интернете программа третьего года обучения расположена по адрес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chess555.narod.ru/3god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suhin.narod.ru/chessprogr3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13B3-5F44-491C-9AA0-616EB46CD0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844280"/>
            <a:ext cx="3271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Учебник для начальной школы, третий год обучения: В 2-х частях» (2008, 2014, 2018, 201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3564000" y="2525760"/>
            <a:ext cx="2525760" cy="3495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ДВ_3год_учебник_Ч2_20пр.jpg"/>
          <p:cNvPicPr/>
          <p:nvPr/>
        </p:nvPicPr>
        <p:blipFill>
          <a:blip r:embed="rId2"/>
          <a:stretch/>
        </p:blipFill>
        <p:spPr>
          <a:xfrm>
            <a:off x="6432480" y="2492280"/>
            <a:ext cx="2562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D110-4ACF-4B93-86DC-4CDAAA641F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ами «Шахматы, первый год, или Там клетки чёрно-белые чудес и тайн полны» и «Шахматы, второй год, или Играем и выигрываем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третьего класса начальной школы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третий год, или Тайны королевской игры» разработано методическое пособие для учителя (и родителей) «Шахматы, трети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21C8-CF49-43AB-9825-38ECCF945B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Учусь и учу» (2009, 2013, 20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D:\Мои документы\Уучь и учу 3 год25пр.jpg"/>
          <p:cNvPicPr/>
          <p:nvPr/>
        </p:nvPicPr>
        <p:blipFill>
          <a:blip r:embed="rId1"/>
          <a:stretch/>
        </p:blipFill>
        <p:spPr>
          <a:xfrm>
            <a:off x="5181480" y="1981080"/>
            <a:ext cx="284652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AEAA-FE45-44BE-97E1-C154FB6D93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бъясняется, как учителю с минимальной шахматной подготовкой проводить занятия с учениками третьего года обучения по учебнику «Шахматы, третий год, или Тайны королевской игры». Самое серьёзное внимание уделяется нестандартным занимательным заданиям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обие будет полезно и родителям, помогающим своим детям 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 и «Шахматы, второй год», сделаны необходимые разъяснения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писывается каждый из 66 уроков, приводится большая часть заданий из учебника с решениям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0607-E231-4E60-9A53-D4F6A55C25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80720"/>
            <a:ext cx="34210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1» (2010, 2012, 2014-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2» (2010, 2012, 2014, 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1"/>
          <a:stretch/>
        </p:blipFill>
        <p:spPr>
          <a:xfrm>
            <a:off x="3419640" y="2359080"/>
            <a:ext cx="2736720" cy="3516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ДВ_3год_Рабочаятетрадь2Ч-25пр.jpg"/>
          <p:cNvPicPr/>
          <p:nvPr/>
        </p:nvPicPr>
        <p:blipFill>
          <a:blip r:embed="rId2"/>
          <a:stretch/>
        </p:blipFill>
        <p:spPr>
          <a:xfrm>
            <a:off x="6291360" y="2349360"/>
            <a:ext cx="26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9FED-404D-45C8-9C97-9E0438AC0D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третьего года обучения в любом классе началь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E49D-81D2-4BBD-8731-843C4B8BFD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45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Тетрадь для проверочных работ» (2011, 2013, 2014, 201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D:\Мои документы\Проверочная тетрадь3год25пр.jpg"/>
          <p:cNvPicPr/>
          <p:nvPr/>
        </p:nvPicPr>
        <p:blipFill>
          <a:blip r:embed="rId1"/>
          <a:stretch/>
        </p:blipFill>
        <p:spPr>
          <a:xfrm>
            <a:off x="4984920" y="1916280"/>
            <a:ext cx="2827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BB02-2E52-4A3B-BFA5-D839571AA9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третье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5BD1-7E33-421A-9CE3-960B1B2359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вается в младшем возрасте, но в общеизвестных системах обучения она целенаправленно не формируется. По этой причин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BA52-ED73-44A4-BE7A-FEF987E358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Третий год обучения» (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5076720" y="1909800"/>
          <a:ext cx="302436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09800"/>
                    <a:ext cx="302436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C54F-4891-4F9D-AC24-BCD42C65EE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дачник третьего года обучения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езентацию подготовил в 2010 году: И.Г.Сухи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ррекция от 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09.2019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1957-9254-49E0-8D1A-5A5FA4E971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Рабочие програм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 – школе. Рабочие програм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-4 годы обучения (20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Рабочие_программы_Шахматы-школе2019-450кб_40пр.jpg"/>
          <p:cNvPicPr/>
          <p:nvPr/>
        </p:nvPicPr>
        <p:blipFill>
          <a:blip r:embed="rId1"/>
          <a:stretch/>
        </p:blipFill>
        <p:spPr>
          <a:xfrm>
            <a:off x="4754520" y="1494000"/>
            <a:ext cx="32734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915B-50FA-41ED-A53E-26F0633D0D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курса "Шахматы – школе" реализуют системно-деятельностный подход и разработаны в соответствии с требованиями Федерального государственного образовательного стандарта начального общего образования и основной образовательной программы начального общего образова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адресованы в первую очередь учителям общеобразовательных организаций и ориентированы на достижение значимой для начальной школы цели – развития у детей фундаментальной способности действовать "в уме" с использованием инновационной здоровьесберегающей шахматно-задачной технологии обучения и системы занимательных дидактических заданий и игр. При реализации данных программ формируются широкие межпредметные связи с основными дисциплинами нача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учный подход, заложенный в программах курса "Шахматы – школе", обеспечил России ряд приоритетов в области шахматного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6749-C444-409D-8486-9015752127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Федеральный курс «Шахматы – школе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следующие учебно-методические комплекты (УМК) :  УМК «Шахматы, первый год», УМК «Шахматы, второй год», УМК «Шахматы, третий г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первый год» входя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ограмма «Шахматы, первый го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-3. Учебник «Шахматы, первый год, или Там клетки чёрно-белые чудес и тайн полны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первый год, или Учусь и уч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первый год, или Там клетки чёрно-белые чудес и тайн полны: Рабочая тетрадь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первый год, или Там клетки чёрно-белые чудес и тайн полны: Тетрадь для проверочных работ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. Первый год обучения. 1500 малофигурных пози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E117-12BB-40D2-880B-ABE6F0A735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второ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второ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второй год, или Играем и выигрываем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второй год, или Учусь и уч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второй год, или Играем и выигрываем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второй год, или Играем и выигрываем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Второ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трети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трети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третий год, или Тайны королевской игры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третий год, или Учусь и уч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третий год, или Тайны королевской игры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третий год, или Тайны королевской игры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Трети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BA21-325A-4773-996D-EA4B8830C0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026" descr="D:\Мои документы\1god_progr.jpg"/>
          <p:cNvPicPr/>
          <p:nvPr/>
        </p:nvPicPr>
        <p:blipFill>
          <a:blip r:embed="rId1"/>
          <a:stretch/>
        </p:blipFill>
        <p:spPr>
          <a:xfrm>
            <a:off x="1547640" y="1916280"/>
            <a:ext cx="6110640" cy="4425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00"/>
                </a:solidFill>
                <a:latin typeface="Times New Roman"/>
              </a:rPr>
              <a:t>Программы курс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28:55Z</dcterms:created>
  <dc:creator>suhin</dc:creator>
  <dc:description/>
  <dc:language>en-US</dc:language>
  <cp:lastModifiedBy>home</cp:lastModifiedBy>
  <dcterms:modified xsi:type="dcterms:W3CDTF">2019-09-08T07:59:59Z</dcterms:modified>
  <cp:revision>363</cp:revision>
  <dc:subject/>
  <dc:title>И.Г.Сухин</dc:title>
</cp:coreProperties>
</file>