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9F8C-978E-4841-9946-EBB78BFC4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C762-209B-47FD-ADA4-A49F0CB9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F536-A37D-48B7-8C7F-C98A1A8D8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043E-0B6C-49E2-AE3D-EC4AD2EDF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40B2-FD77-48A3-A6F4-82703A67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D019-DFBA-4507-B628-47FDB229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5B4B-C2BD-4DE9-ADB6-287B0C70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6ECB-1D26-4276-96DF-B1FA346B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AE3F-8113-4F66-B3A4-13FD721E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BA86-0F0C-47E5-B195-F23857D5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9681-4EF5-45C0-9068-176A4273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E5F6-6A4F-4342-8EA2-20A1F00E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A579-1C9F-4443-B3FC-9C020AB042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chess555.narod.ru/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15.pn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image" Target="../media/image18.jpe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Г. Сухин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ам о междисциплинарном здоровьесберегающем курсе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ахматы – школе»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Сухин_фото_20"/>
          <p:cNvPicPr/>
          <p:nvPr/>
        </p:nvPicPr>
        <p:blipFill>
          <a:blip r:embed="rId1"/>
          <a:stretch/>
        </p:blipFill>
        <p:spPr>
          <a:xfrm>
            <a:off x="8172360" y="189000"/>
            <a:ext cx="7923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7640" y="259920"/>
            <a:ext cx="568836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ящий урок в начальной школе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сочетание тайны,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инственност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А.М.Волкову)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меха, юмора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Н.Н.Носову и Э.Н.Успенскому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каждый урок курса «Шахматы – школе» одновременно: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1) урок-сказка; 2) урок-театр;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урок-дидактическая игра; 4) урок-тайна; 5) урок-удивление; 6) урок-погружение  в мир забавных и занимательных заданий; 7) урок без неуспевающих; 8) урок-сотворчество; 9) урок-здоровьесбереж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у работы педагога по курсу «Шахматы – школе» составляет организация процесса решения учениками занимательных головоломок, составленных с помощью шахматного материала (шахматных фигур на шахматных досках), и проведение доступных дидактических иг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час учитель начальных классов упускает на уроках то, что лежит между условием задачи и ее ответом. Учителя нередко требуют получение правильного ответа, не интересуясь ходом рассуждений ученика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При работе по «Шахматно-задачной технологии» ключевым становится именно акцент на ход мыслей ребенка, который привел его к правильным или к неправильным выво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урок рассматривается как четко структурированная здоровьесберегающая система решения постепенно усложняющихся занимательных развивающих заданий и организация развивающих дидактических иг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а доказала, что для учащихся начальных классов шахматные задачи и головоломки курса «Шахматы –  школе» часто оказываются интереснее, чем игра в шахматы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Неудивительно, что многочисленные опросы детей, с которыми занимались по «Шахматно-задачной технологии», показали, что урок шахмат нравится почти 100% учеников. Есть мотивация – есть и успешнос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а показал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, что при качественном преподавании курса «Шахматы – школе» большая часть детей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1) учится на 4 и 5 почти по всем предметам основной школьной программы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2) приобретает способность выполнять домашние задания по всем предметам без помощи родителей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3) в дальнейшем успешно поступает в вузы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Безусловно, родителей не может не радовать такая перспекти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заблуждениях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ичным заблуждением является то, что шахматы полезны сами по себе. Это не так – шахматы для системы образовани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сё дело исключительно в том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он использует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А с 2016 года в ряде регионов как грибы стали появляться шахматные учебники, которые стали навязываться системе образования как «школьные».  Работать по ним учителям невозмож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сех этих «школьных» учебниках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ленная цель – научить детей играть в шахмат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и этом учить должны учителя, которые сами не умеют играть и только что получили сертификат на право преподавания (на краткосрочных курсах повышения квалификации)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тупиковый путь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эти учителя должны всего при одном уроке в неделю научить всех детей именно играть в шахматы?! Большую глупость и придумать трудно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ли мы говорим о массовой школ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а не о педагоге-уникуме! Это ведёт лишь к профанации великой иде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 не учитывается, к примеру, что неопытный учитель не сможет качественно проконтролировать даже одну пару играющих в шахматы на предмет нарушения правил шахматной игры. Особенно, если сделан недопустимый правилами ход (а это будет сплошь и рядом) и т.п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А на курсах повышения квалификации авторы подобных учебников уверяют учителей, что шахматы –  лёгкая игра. Это не так, это –  ложь. Чтобы научиться играть в шахматы даже на мало-мальски приемлемом уровне нужно пуд соли съесть…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А вот в курсе «Шахматы – школе» с применением «Шахматно-задачной технологии»  всё учтено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799308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0.08.2019: Министр просвещения РФ Ольга Юрьевна Васильева подтвердила: шахматы, интеллектуальное развитие, аналитическое мышление – взаимосвязанные вещи... И ранее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15.02.2019:  О.Ю.Васильева: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Шахматы – это не спорт, это искусство, это наука и творчество»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20.01.2017: О.Ю.Васильева: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ичто не развивает ребенка так, как шахматы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23.09.2016:  О.Ю.Васильева: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Я уверена, что спорт, шахматы и музыка – это три кита, на которых основывается воспитание гармоничной личност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2" descr="Васильева_министрПр.jpg"/>
          <p:cNvPicPr/>
          <p:nvPr/>
        </p:nvPicPr>
        <p:blipFill>
          <a:blip r:embed="rId1"/>
          <a:stretch/>
        </p:blipFill>
        <p:spPr>
          <a:xfrm>
            <a:off x="7885080" y="90360"/>
            <a:ext cx="11304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отличия курса «Шахматы – школе» от других курсов: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1) курс научно обоснован; 2) курс максимально практико-ориентирован; 3) курс – здоровьесберегающий; 4) для курса разработана эффективная технология обучения – шахматно-задачная (включающая комплекс развивающих занимательных заданий и дидактических игр); 5) курс реализуется в двух вариантах: трёхлетний (со 2-го по 4-й классы) и четырехлетний (с 1-го по 4-й классы); 6) курс доступен для учителей с изначально нулевой шахматной подготовкой; 7) курс пронизан межпредметными связями со многими учебными дисциплинами; 8) курс диагностируем, так как способность действовать «в уме» имеет 5 диагностируемых этапов развит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Задачи к курсу «Шахматы – школе». Второй год обучения. – 3-е изд. – Обнинск: Духовное возрождение, 2016. – 27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Задачи к курсу «Шахматы – школе». Первый год обучения. 1500 малофигурных позиций. – 6-е изд. – Обнинск: Духовное возрождение, 2019. – 272 с.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Задачи к курсу «Шахматы – школе». Третий год обучения. – Обнинск: Духовное возрождение, 2014. – 304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Еще раз о концепции федерального курса «Шахматы – школе» // Интеллектуал Зауралья (шахматное образование) – 2016: сборник материалов для участников VI областного фестиваля по шахматам «Папа + Мама + Школа +Я = Шахматная семья». 14 декабря 2016 г. / Курган: Институт развития образования и социальных технологий», 2016. – С. 20- 28.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Программы курса «Шахматы – школе»: Для начальных классов общеобразовательных учреждений. – 4-е изд. – Обнинск: Духовное возрождение, 2016. – 40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Рабочая тетрадь: В 2-х частях. Часть 1. – 8-е изд. – Обнинск: Духовное возрождение, 2019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Рабочая тетрадь: В 2-х частях. Часть 2. – 8-е изд. – Обнинск: Духовное возрождение, 2019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Тетрадь для проверочных работ. – 5-е изд. – Обнинск: Духовное возрождение, 2018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Учебник для начальной школы, второй год обучения: В 2-х частях. Часть 1. – 7-е изд. – Обнинск: Духовное возрождение, 2019. – 84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Учебник для начальной школы, второй год обучения: В 2-х частях. Часть 2. – 7-е изд. – Обнинск: Духовное возрождение, 2019. – 80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Учусь и учу. – 4-е изд. – Обнинск: Духовное возрождение, 2017. – 104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Рабочая тетрадь: В 2-х частях. Часть 1. – 9-е изд. – Обнинск: Духовное возрождение, 2019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Рабочая тетрадь: В 2-х частях. Часть 2. – 9-е изд. – Обнинск: Духовное возрождение, 2019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Тетрадь для проверочных работ. – 7-е изд. – Обнинск: Духовное возрождение, 2018. – 3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89308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Учебник для начальной школы, первый год обучения. В 2-х частях. Часть 1. – 8-е изд. – Обнинск: Духовное возрождение, 2018. – 80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Учебник для начальной школы, первый год обучения. В 2-х частях. Часть 2. – 8-е изд. – Обнинск: Духовное возрождение, 2018. – 88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первый год, или Учусь и учу:  Пособие для учителя. – 4-е изд. – Обнинск: Духовное возрождение, 2019. – 120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Рабочая тетрадь: Часть 1. – 6-е изд. – Обнинск: Духовное возрождение, 2019. – 32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Рабочая тетрадь: Часть 2. – 6-е изд. – Обнинск: Духовное возрождение, 2019. – 32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Тетрадь для проверочных работ. – 4-е изд. – Обнинск: Духовное возрождение, 2016.  – 32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Учебник для начальной школы, третий год обучения: В 2-х частях. Часть 1. – 4-е изд. – Обнинск: Духовное возрождение, 2019. – 80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Учебник для начальной школы, третий год обучения: В 2-х частях. Часть 2. – 4-е изд. – Обнинск: Духовное возрождение, 2019. – 80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Учусь и учу. – 3-е изд. – Обнинск: Духовное возрождение, 2016. – 224 с.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 реальным положением дел по тематике шахматного образования можно познакомиться только в новостях Сайта шахматного всеобуча – на главной странице сайта 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chess555.narod.ru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8091720" cy="630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Г.Сухин 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идат педагогических наук, старший научный сотрудник Института стратегии развития образования Российской академии образования (Москва),  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ётный работник общего образования Российской Федерации, лауреат Фонда Первого Президента Республики Саха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олог шахматного всеобуча в РФ, кандидат в мастера по шахматам (чемпион клуба "Спартак" Москва, 1977), руководитель Интернет-проектов "Занимательные и методические материалы из книг Игоря Сухина" –  http://suhin.narod.ru и "Шахматы для детей от 0 до 14 лет, родителей и педагогов: Учиться на одни пятёрки (Сайт шахматного всеобуча)" – http://chess555.narod.ru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И.Г.Сухин – автор Федерального курса для начальной школы "Шахматы – школе", автор более ста книг для учителей, родителей и детей, изданных в России, Испании, Турции, Германии, Италии, Словении и США суммарным тиражом около 2,0 млн. экземпляров. Ряд работ получили гриф "Рекомендовано Министерством общего и профессионального образования РФ". Тематика книг: шахматные учебники и пособия для начальной школы, детей 2-6 лет, занимательная математика, игры с буквами и словами, разнообразные затеи для начальной школы, литературные тесты, викторины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Сухин_фото_20"/>
          <p:cNvPicPr/>
          <p:nvPr/>
        </p:nvPicPr>
        <p:blipFill>
          <a:blip r:embed="rId1"/>
          <a:stretch/>
        </p:blipFill>
        <p:spPr>
          <a:xfrm>
            <a:off x="34920" y="2819520"/>
            <a:ext cx="792000" cy="12189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152280" y="6381720"/>
            <a:ext cx="71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ю подготовил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09.2019 И.Г.Сух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784872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7 августа 2019 года президент Международной шахматной федерации (ФИДЕ) Аркадий Владимирович Дворкович сообщил ТАСС, что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1) шахматы должны использоваться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«в качестве образовательного инструмента в школах для улучшения интеллектуальных способностей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2)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«шахматы должны использоваться именно как средство образования, а не как обязательная игра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енно это изначально заложено в курсе «Шахматы – школе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озволяет педагогам качественно проводить шахматные занятия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3" descr="Дворкович.jpg"/>
          <p:cNvPicPr/>
          <p:nvPr/>
        </p:nvPicPr>
        <p:blipFill>
          <a:blip r:embed="rId1"/>
          <a:stretch/>
        </p:blipFill>
        <p:spPr>
          <a:xfrm>
            <a:off x="7667640" y="189000"/>
            <a:ext cx="12412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E9C1-C8E7-468F-905A-B638E2D1A1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ЕДЕРАЛЬНЫЙ КУРС «ШАХМАТЫ – ШКОЛ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D:\Мои документы\Мои рисунки\Копия Обложки книг для ШН\Учебник 2 год .jpg"/>
          <p:cNvPicPr/>
          <p:nvPr/>
        </p:nvPicPr>
        <p:blipFill>
          <a:blip r:embed="rId1"/>
          <a:stretch/>
        </p:blipFill>
        <p:spPr>
          <a:xfrm>
            <a:off x="228600" y="2925720"/>
            <a:ext cx="1312920" cy="1798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D:\Мои документы\Мои рисунки\Новые фото книг\Марина Духовное возрождение Обложки некоторых новых книг\Chess_cover_metod-2_for_web.jpg"/>
          <p:cNvPicPr/>
          <p:nvPr/>
        </p:nvPicPr>
        <p:blipFill>
          <a:blip r:embed="rId2"/>
          <a:stretch/>
        </p:blipFill>
        <p:spPr>
          <a:xfrm>
            <a:off x="2133720" y="2997360"/>
            <a:ext cx="1184040" cy="180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D:\Мои документы\Мои рисунки\Новые фото всех моих книг\ДВ_Рабтетрадь_2класс_1часть50.jpg"/>
          <p:cNvPicPr/>
          <p:nvPr/>
        </p:nvPicPr>
        <p:blipFill>
          <a:blip r:embed="rId3"/>
          <a:stretch/>
        </p:blipFill>
        <p:spPr>
          <a:xfrm>
            <a:off x="3886200" y="2970360"/>
            <a:ext cx="1317600" cy="1804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D:\Мои документы\Мои рисунки\Новые фото книг\ДВ_2год_провер30.jpg"/>
          <p:cNvPicPr/>
          <p:nvPr/>
        </p:nvPicPr>
        <p:blipFill>
          <a:blip r:embed="rId4"/>
          <a:stretch/>
        </p:blipFill>
        <p:spPr>
          <a:xfrm>
            <a:off x="5713560" y="2981160"/>
            <a:ext cx="1201680" cy="1800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D:\Мои документы\Задачник_2_год_25пр.jpg"/>
          <p:cNvPicPr/>
          <p:nvPr/>
        </p:nvPicPr>
        <p:blipFill>
          <a:blip r:embed="rId5"/>
          <a:stretch/>
        </p:blipFill>
        <p:spPr>
          <a:xfrm>
            <a:off x="7488360" y="2981160"/>
            <a:ext cx="1220760" cy="1800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D:\Мои документы\Мои рисунки\Копия Обложки книг для ШН\Учебник 3 год.jpg"/>
          <p:cNvPicPr/>
          <p:nvPr/>
        </p:nvPicPr>
        <p:blipFill>
          <a:blip r:embed="rId6"/>
          <a:stretch/>
        </p:blipFill>
        <p:spPr>
          <a:xfrm>
            <a:off x="237960" y="4929120"/>
            <a:ext cx="1303560" cy="1805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D:\Мои документы\Уучь и учу 3 год25пр.jpg"/>
          <p:cNvPicPr/>
          <p:nvPr/>
        </p:nvPicPr>
        <p:blipFill>
          <a:blip r:embed="rId7"/>
          <a:stretch/>
        </p:blipFill>
        <p:spPr>
          <a:xfrm>
            <a:off x="2135160" y="4932360"/>
            <a:ext cx="1198440" cy="1803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D:\Мои документы\Мои рисунки\Новые фото книг\Марина Духовное возрождение Обложки некоторых новых книг\Cover_rt_part_1_____for_web_small.jpg"/>
          <p:cNvPicPr/>
          <p:nvPr/>
        </p:nvPicPr>
        <p:blipFill>
          <a:blip r:embed="rId8"/>
          <a:stretch/>
        </p:blipFill>
        <p:spPr>
          <a:xfrm>
            <a:off x="3854520" y="4959360"/>
            <a:ext cx="1400040" cy="1798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D:\Мои документы\Проверочная тетрадь3год25пр.jpg"/>
          <p:cNvPicPr/>
          <p:nvPr/>
        </p:nvPicPr>
        <p:blipFill>
          <a:blip r:embed="rId9"/>
          <a:stretch/>
        </p:blipFill>
        <p:spPr>
          <a:xfrm>
            <a:off x="5746680" y="4943520"/>
            <a:ext cx="1201680" cy="18032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6" descr="Сухин_Шахматы_1год_учебник2017_1часть20пр.jpg"/>
          <p:cNvPicPr/>
          <p:nvPr/>
        </p:nvPicPr>
        <p:blipFill>
          <a:blip r:embed="rId10"/>
          <a:stretch/>
        </p:blipFill>
        <p:spPr>
          <a:xfrm>
            <a:off x="250920" y="981000"/>
            <a:ext cx="1331640" cy="18003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Сухин_Шахматы_1год_рабтетрадь2017_1часть15пр.jpg"/>
          <p:cNvPicPr/>
          <p:nvPr/>
        </p:nvPicPr>
        <p:blipFill>
          <a:blip r:embed="rId11"/>
          <a:stretch/>
        </p:blipFill>
        <p:spPr>
          <a:xfrm>
            <a:off x="3840120" y="907920"/>
            <a:ext cx="1308240" cy="18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Object 6"/>
          <p:cNvGraphicFramePr/>
          <p:nvPr/>
        </p:nvGraphicFramePr>
        <p:xfrm>
          <a:off x="7483320" y="4941720"/>
          <a:ext cx="1265400" cy="1824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1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483320" y="4941720"/>
                    <a:ext cx="1265400" cy="18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Рисунок 18" descr="ДВ_обложка_1год-тетрадь_провер-2019_20пр.jpg"/>
          <p:cNvPicPr/>
          <p:nvPr/>
        </p:nvPicPr>
        <p:blipFill>
          <a:blip r:embed="rId14"/>
          <a:stretch/>
        </p:blipFill>
        <p:spPr>
          <a:xfrm>
            <a:off x="5703840" y="907920"/>
            <a:ext cx="1171800" cy="17971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8" descr="ДВ_обложка_1год-пособие-2019_20пр.jpg"/>
          <p:cNvPicPr/>
          <p:nvPr/>
        </p:nvPicPr>
        <p:blipFill>
          <a:blip r:embed="rId15"/>
          <a:stretch/>
        </p:blipFill>
        <p:spPr>
          <a:xfrm>
            <a:off x="2124000" y="981000"/>
            <a:ext cx="1230480" cy="18781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9" descr="ДВ_обложка_1год-задачник2019_20пр.jpg"/>
          <p:cNvPicPr/>
          <p:nvPr/>
        </p:nvPicPr>
        <p:blipFill>
          <a:blip r:embed="rId16"/>
          <a:stretch/>
        </p:blipFill>
        <p:spPr>
          <a:xfrm>
            <a:off x="7451640" y="928800"/>
            <a:ext cx="122400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 «Шахматы – школе» апробирован в большом количестве отечественных регионов и обеспечен всеми необходимыми материалами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В него входят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рабочие программы 4-х лет обучения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учебники для учеников (в 2-х частях)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пособия для учителя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рабочие тетради  (в 2-х частях)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тетради для проверочных работ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задачн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41672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ОБЛЕГЧИТЬ РАБОТУ УЧИТЕЛЯ?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Ключевая фигура на уроке шахмат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ител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Главный аспект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требовать от учителя невозможного!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Чтобы не превратить урок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хмат в профанацию, следует максимально упростить работу педагога, не в ущерб содержательност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Поскольку цель уроков – системное развитие мышления, то преподавать следует по «Шахматно-задачной технологии обучения», легко осваиваемой учителями даже изначально не знающими правил шахматной иг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41672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е научного подхода «Шахматы – школе» – высветить всё то, что могут подарить шахматы детям, и реализовать в учебном курсе, любимом и детьми, и учителям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уроков шахмат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чётко структурированное, поэтапное развитие мышления детей, а процесс обучения шахматным азам – средство, инструмент, фон, на котором протекает развитие. Именно на это ориентирован курс «Шахматы – школе»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В курсе учтено, что лишь небольшой процент российских учителей начальных классов и воспитателей детских садов умеет играть в шахм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 «Шахматы – школе» – это единая, целостная система – волшебный квадрат «Математика, логика, чтение, русский язык» в сердцевине которого находятся шахма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8120" y="25905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АХМ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838080" y="762120"/>
            <a:ext cx="373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МАТИЧЕСКИЕ ГОЛОВОЛ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5334120" y="76212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ОГИЧЕСКИЕ ГОЛОВОЛ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1219320" y="4343400"/>
            <a:ext cx="3047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ТЕРАТУРНЫЕ ГОЛОВОЛ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5410080" y="4343400"/>
            <a:ext cx="3124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КВЕННО-РЕЧЕВЫЕ ГОЛОВОЛ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>
            <a:off x="2666880" y="1676520"/>
            <a:ext cx="190512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2590920" y="1676520"/>
            <a:ext cx="4419360" cy="2904840"/>
            <a:chOff x="2590920" y="1676520"/>
            <a:chExt cx="4419360" cy="2904840"/>
          </a:xfrm>
        </p:grpSpPr>
        <p:sp>
          <p:nvSpPr>
            <p:cNvPr id="76" name="Line 9"/>
            <p:cNvSpPr/>
            <p:nvPr/>
          </p:nvSpPr>
          <p:spPr>
            <a:xfrm flipH="1">
              <a:off x="4571640" y="1676520"/>
              <a:ext cx="20574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 flipV="1">
              <a:off x="2590920" y="3362400"/>
              <a:ext cx="198108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1"/>
            <p:cNvSpPr/>
            <p:nvPr/>
          </p:nvSpPr>
          <p:spPr>
            <a:xfrm>
              <a:off x="4648320" y="3384720"/>
              <a:ext cx="23619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2:53:19Z</dcterms:created>
  <dc:creator>User PC</dc:creator>
  <dc:description/>
  <dc:language>en-US</dc:language>
  <cp:lastModifiedBy>home</cp:lastModifiedBy>
  <dcterms:modified xsi:type="dcterms:W3CDTF">2019-09-10T19:12:26Z</dcterms:modified>
  <cp:revision>114</cp:revision>
  <dc:subject/>
  <dc:title>Курсы для общеобразовательной школы «Шахматы – школе» и «Шахматы в школе»: их научный уровень и сравнительная характеристика. Июль, 2018 г.</dc:title>
</cp:coreProperties>
</file>