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CAAFA-6831-4D34-9132-B78A8D5B7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C0F65-5927-40B5-B620-5A313B74D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EF1D2-21E7-4EDC-ABC5-08357D193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9FD60-DDF3-4F7D-B6FE-11CC467A1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B439F-1BCE-4803-87F3-9ED48FBE3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4E49A-1AC4-465F-BEA8-2245D5582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DA49A-3E0D-49A1-AD10-D2DFCD426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A57A6-8C0B-48BA-A30D-EF2A73435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DF58A-B80D-43F8-B310-2D724591C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6596F-A521-4302-9410-7189D88DF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420B6-F19B-4B6A-B90E-145E37755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AD8BC-406E-46F9-8D9E-F425D95CB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E94CB-2419-499C-9C16-B4AF48E11DF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chess555.narod.ru/" TargetMode="External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image" Target="../media/image11.jpeg"/><Relationship Id="rId9" Type="http://schemas.openxmlformats.org/officeDocument/2006/relationships/image" Target="../media/image12.jpeg"/><Relationship Id="rId10" Type="http://schemas.openxmlformats.org/officeDocument/2006/relationships/image" Target="../media/image13.jpeg"/><Relationship Id="rId11" Type="http://schemas.openxmlformats.org/officeDocument/2006/relationships/image" Target="../media/image14.jpeg"/><Relationship Id="rId12" Type="http://schemas.openxmlformats.org/officeDocument/2006/relationships/oleObject" Target="../embeddings/oleObject1.bin"/><Relationship Id="rId13" Type="http://schemas.openxmlformats.org/officeDocument/2006/relationships/image" Target="../media/image15.png"/><Relationship Id="rId14" Type="http://schemas.openxmlformats.org/officeDocument/2006/relationships/image" Target="../media/image16.jpeg"/><Relationship Id="rId15" Type="http://schemas.openxmlformats.org/officeDocument/2006/relationships/image" Target="../media/image17.jpeg"/><Relationship Id="rId16" Type="http://schemas.openxmlformats.org/officeDocument/2006/relationships/image" Target="../media/image18.jpeg"/><Relationship Id="rId1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597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.Г. Сухин</a:t>
            </a:r>
            <a:br>
              <a:rPr sz="4400"/>
            </a:b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дагогам о междисциплинарном здоровьесберегающем курсе 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Шахматы – школе»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3" descr="Сухин_фото_20"/>
          <p:cNvPicPr/>
          <p:nvPr/>
        </p:nvPicPr>
        <p:blipFill>
          <a:blip r:embed="rId1"/>
          <a:stretch/>
        </p:blipFill>
        <p:spPr>
          <a:xfrm>
            <a:off x="8172360" y="189000"/>
            <a:ext cx="79236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07640" y="259920"/>
            <a:ext cx="5688360" cy="597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тоящий урок в начальной школе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это сочетание тайны,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инственности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о А.М.Волкову)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смеха, юмора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о Н.Н.Носову и Э.Н.Успенскому)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597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этому каждый урок курса «Шахматы – школе» одновременно: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1) урок-сказка; 2) урок-театр;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урок-дидактическая игра; 4) урок-тайна; 5) урок-удивление; 6) урок-погружение  в мир забавных и занимательных заданий; 7) урок без неуспевающих; 8) урок-сотворчество; 9) урок-здоровьесбережени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424720" cy="597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у работы педагога по курсу «Шахматы – школе» составляет организация процесса решения учениками занимательных головоломок, составленных с помощью шахматного материала (шахматных фигур на шахматных досках), и проведение доступных дидактических иг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424720" cy="597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час учитель начальных классов упускает на уроках то, что лежит между условием задачи и ее ответом. Учителя нередко требуют получение правильного ответа, не интересуясь ходом рассуждений ученика.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При работе по «Шахматно-задачной технологии» ключевым становится именно акцент на ход мыслей ребенка, который привел его к правильным или к неправильным вывод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424720" cy="597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ждый урок рассматривается как четко структурированная здоровьесберегающая система решения постепенно усложняющихся занимательных развивающих заданий и организация развивающих дидактических игр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597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ктика доказала, что для учащихся начальных классов шахматные задачи и головоломки курса «Шахматы –  школе» часто оказываются интереснее, чем игра в шахматы.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Неудивительно, что многочисленные опросы детей, с которыми занимались по «Шахматно-задачной технологии», показали, что урок шахмат нравится почти 100% учеников. Есть мотивация – есть и успешност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424720" cy="597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ктика показал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же, что при качественном преподавании курса «Шахматы – школе» большая часть детей: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1) учится на 4 и 5 почти по всем предметам основной школьной программы;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2) приобретает способность выполнять домашние задания по всем предметам без помощи родителей;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3) в дальнейшем успешно поступает в вузы.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Безусловно, родителей не может не радовать такая перспектив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597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заблуждениях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пичным заблуждением является то, что шахматы полезны сами по себе. Это не так – шахматы для системы образования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струмент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Всё дело исключительно в том,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он используется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А с 2016 года в ряде регионов как грибы стали появляться шахматные учебники, которые стали навязываться системе образования как «школьные».  Работать по ним учителям невозможн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597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 всех этих «школьных» учебниках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явленная цель – научить детей играть в шахматы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При этом учить должны учителя, которые сами не умеют играть и только что получили сертификат на право преподавания (на краткосрочных курсах повышения квалификации).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Это тупиковый путь.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 эти учителя должны всего при одном уроке в неделю научить всех детей именно играть в шахматы?! Большую глупость и придумать трудно –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если мы говорим о массовой школ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а не о педагоге-уникуме! Это ведёт лишь к профанации великой иде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713800" cy="604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м не учитывается, к примеру, что неопытный учитель не сможет качественно проконтролировать даже одну пару играющих в шахматы на предмет нарушения правил шахматной игры. Особенно, если сделан недопустимый правилами ход (а это будет сплошь и рядом) и т.п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А на курсах повышения квалификации авторы подобных учебников уверяют учителей, что шахматы –  лёгкая игра. Это не так, это –  ложь. Чтобы научиться играть в шахматы даже на мало-мальски приемлемом уровне нужно пуд соли съесть…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А вот в курсе «Шахматы – школе» с применением «Шахматно-задачной технологии»  всё учтено!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8920" y="260280"/>
            <a:ext cx="7993080" cy="633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0.08.2019: Министр просвещения РФ Ольга Юрьевна Васильева подтвердила: шахматы, интеллектуальное развитие, аналитическое мышление – взаимосвязанные вещи... И ранее: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15.02.2019:  О.Ю.Васильева: «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Шахматы – это не спорт, это искусство, это наука и творчество»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20.01.2017: О.Ю.Васильева: «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Ничто не развивает ребенка так, как шахматы»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23.09.2016:  О.Ю.Васильева: «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Я уверена, что спорт, шахматы и музыка – это три кита, на которых основывается воспитание гармоничной личности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Рисунок 2" descr="Васильева_министрПр.jpg"/>
          <p:cNvPicPr/>
          <p:nvPr/>
        </p:nvPicPr>
        <p:blipFill>
          <a:blip r:embed="rId1"/>
          <a:stretch/>
        </p:blipFill>
        <p:spPr>
          <a:xfrm>
            <a:off x="7885080" y="90360"/>
            <a:ext cx="1130400" cy="15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8569080" cy="633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е отличия курса «Шахматы – школе» от других курсов: 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1) курс научно обоснован; 2) курс максимально практико-ориентирован; 3) курс – здоровьесберегающий; 4) для курса разработана эффективная технология обучения – шахматно-задачная (включающая комплекс развивающих занимательных заданий и дидактических игр); 5) курс реализуется в двух вариантах: трёхлетний (со 2-го по 4-й классы) и четырехлетний (с 1-го по 4-й классы); 6) курс доступен для учителей с изначально нулевой шахматной подготовкой; 7) курс пронизан межпредметными связями со многими учебными дисциплинами; 8) курс диагностируем, так как способность действовать «в уме» имеет 5 диагностируемых этапов развития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8713800" cy="640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Сухин И.Г.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Задачи к курсу «Шахматы – школе». Второй год обучения. – 3-е изд. – Обнинск: Духовное возрождение, 2016. – 272 с. </a:t>
            </a:r>
            <a:br>
              <a:rPr sz="1400"/>
            </a:b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Сухин И.Г.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Задачи к курсу «Шахматы – школе». Первый год обучения. 1500 малофигурных позиций. – 6-е изд. – Обнинск: Духовное возрождение, 2019. – 272 с.</a:t>
            </a:r>
            <a:br>
              <a:rPr sz="1400"/>
            </a:b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Сухин И.Г.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Задачи к курсу «Шахматы – школе». Третий год обучения. – Обнинск: Духовное возрождение, 2014. – 304 с. </a:t>
            </a:r>
            <a:br>
              <a:rPr sz="1400"/>
            </a:b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Сухин И.Г.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Еще раз о концепции федерального курса «Шахматы – школе» // Интеллектуал Зауралья (шахматное образование) – 2016: сборник материалов для участников VI областного фестиваля по шахматам «Папа + Мама + Школа +Я = Шахматная семья». 14 декабря 2016 г. / Курган: Институт развития образования и социальных технологий», 2016. – С. 20- 28.</a:t>
            </a:r>
            <a:br>
              <a:rPr sz="1400"/>
            </a:b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Сухин И.Г.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Программы курса «Шахматы – школе»: Для начальных классов общеобразовательных учреждений. – 4-е изд. – Обнинск: Духовное возрождение, 2016. – 40 с. </a:t>
            </a:r>
            <a:br>
              <a:rPr sz="1400"/>
            </a:b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Сухин И.Г.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Шахматы, второй год, или Играем и выигрываем: Рабочая тетрадь: В 2-х частях. Часть 1. – 8-е изд. – Обнинск: Духовное возрождение, 2019. – 32 с. </a:t>
            </a:r>
            <a:br>
              <a:rPr sz="1400"/>
            </a:b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Сухин И.Г.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Шахматы, второй год, или Играем и выигрываем: Рабочая тетрадь: В 2-х частях. Часть 2. – 8-е изд. – Обнинск: Духовное возрождение, 2019. – 32 с. </a:t>
            </a:r>
            <a:br>
              <a:rPr sz="1400"/>
            </a:b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Сухин И.Г.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Шахматы, второй год, или Играем и выигрываем: Тетрадь для проверочных работ. – 5-е изд. – Обнинск: Духовное возрождение, 2018. – 32 с. </a:t>
            </a:r>
            <a:br>
              <a:rPr sz="1400"/>
            </a:b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Сухин И.Г.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Шахматы, второй год, или Играем и выигрываем: Учебник для начальной школы, второй год обучения: В 2-х частях. Часть 1. – 7-е изд. – Обнинск: Духовное возрождение, 2019. – 84 с. </a:t>
            </a:r>
            <a:br>
              <a:rPr sz="1400"/>
            </a:b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Сухин И.Г.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Шахматы, второй год, или Играем и выигрываем: Учебник для начальной школы, второй год обучения: В 2-х частях. Часть 2. – 7-е изд. – Обнинск: Духовное возрождение, 2019. – 80 с. </a:t>
            </a:r>
            <a:br>
              <a:rPr sz="1400"/>
            </a:b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Сухин И.Г.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Шахматы, второй год, или Учусь и учу. – 4-е изд. – Обнинск: Духовное возрождение, 2017. – 104 с. </a:t>
            </a:r>
            <a:br>
              <a:rPr sz="1400"/>
            </a:b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Сухин И.Г.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Шахматы, первый год, или Там клетки черно-белые чудес и тайн полны: Рабочая тетрадь: В 2-х частях. Часть 1. – 9-е изд. – Обнинск: Духовное возрождение, 2019. – 32 с. </a:t>
            </a:r>
            <a:br>
              <a:rPr sz="1400"/>
            </a:b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Сухин И.Г.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Шахматы, первый год, или Там клетки черно-белые чудес и тайн полны: Рабочая тетрадь: В 2-х частях. Часть 2. – 9-е изд. – Обнинск: Духовное возрождение, 2019. – 32 с. </a:t>
            </a:r>
            <a:br>
              <a:rPr sz="1400"/>
            </a:b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Сухин И.Г.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Шахматы, первый год, или Там клетки черно-белые чудес и тайн полны: Тетрадь для проверочных работ. – 7-е изд. – Обнинск: Духовное возрождение, 2018. – 32 с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-360" y="260280"/>
            <a:ext cx="8893080" cy="612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Сухин И.Г.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Шахматы, первый год, или Там клетки черно-белые чудес и тайн полны: Учебник для начальной школы, первый год обучения. В 2-х частях. Часть 1. – 8-е изд. – Обнинск: Духовное возрождение, 2018. – 80 с. 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Сухин И.Г.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Шахматы, первый год, или Там клетки черно-белые чудес и тайн полны: Учебник для начальной школы, первый год обучения. В 2-х частях. Часть 2. – 8-е изд. – Обнинск: Духовное возрождение, 2018. – 88 с. 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Сухин И.Г.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Шахматы, первый год, или Учусь и учу:  Пособие для учителя. – 4-е изд. – Обнинск: Духовное возрождение, 2019. – 120 с. 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Сухин И.Г.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Шахматы, третий год, или Тайны королевской игры: Рабочая тетрадь: Часть 1. – 6-е изд. – Обнинск: Духовное возрождение, 2019. – 32 с. 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Сухин И.Г.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Шахматы, третий год, или Тайны королевской игры: Рабочая тетрадь: Часть 2. – 6-е изд. – Обнинск: Духовное возрождение, 2019. – 32 с. 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Сухин И.Г.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Шахматы, третий год, или Тайны королевской игры: Тетрадь для проверочных работ. – 4-е изд. – Обнинск: Духовное возрождение, 2016.  – 32 с. 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Сухин И.Г.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Шахматы, третий год, или Тайны королевской игры: Учебник для начальной школы, третий год обучения: В 2-х частях. Часть 1. – 4-е изд. – Обнинск: Духовное возрождение, 2019. – 80 с. 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Сухин И.Г.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Шахматы, третий год, или Тайны королевской игры: Учебник для начальной школы, третий год обучения: В 2-х частях. Часть 2. – 4-е изд. – Обнинск: Духовное возрождение, 2019. – 80 с. 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Сухин И.Г.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Шахматы, третий год, или Учусь и учу. – 3-е изд. – Обнинск: Духовное возрождение, 2016. – 224 с. </a:t>
            </a:r>
            <a:br>
              <a:rPr sz="14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597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С реальным положением дел по тематике шахматного образования можно познакомиться только в новостях Сайта шахматного всеобуча – на главной странице сайта </a:t>
            </a:r>
            <a:r>
              <a:rPr b="0" lang="ru-RU" sz="44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ttp://chess555.narod.ru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99640" y="0"/>
            <a:ext cx="8091720" cy="630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.Г.Сухин –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ндидат педагогических наук, старший научный сотрудник Института стратегии развития образования Российской академии образования (Москва),  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чётный работник общего образования Российской Федерации, лауреат Фонда Первого Президента Республики Саха,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олог шахматного всеобуча в РФ, кандидат в мастера по шахматам (чемпион клуба "Спартак" Москва, 1977), руководитель Интернет-проектов "Занимательные и методические материалы из книг Игоря Сухина" –  http://suhin.narod.ru и "Шахматы для детей от 0 до 14 лет, родителей и педагогов: Учиться на одни пятёрки (Сайт шахматного всеобуча)" – http://chess555.narod.ru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И.Г.Сухин – автор Федерального курса для начальной школы "Шахматы – школе", автор более ста книг для учителей, родителей и детей, изданных в России, Испании, Турции, Германии, Италии, Словении и США суммарным тиражом около 2,0 млн. экземпляров. Ряд работ получили гриф "Рекомендовано Министерством общего и профессионального образования РФ". Тематика книг: шахматные учебники и пособия для начальной школы, детей 2-6 лет, занимательная математика, игры с буквами и словами, разнообразные затеи для начальной школы, литературные тесты, викторины и д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3" descr="Сухин_фото_20"/>
          <p:cNvPicPr/>
          <p:nvPr/>
        </p:nvPicPr>
        <p:blipFill>
          <a:blip r:embed="rId1"/>
          <a:stretch/>
        </p:blipFill>
        <p:spPr>
          <a:xfrm>
            <a:off x="34920" y="2819520"/>
            <a:ext cx="792000" cy="121896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3"/>
          <p:cNvSpPr/>
          <p:nvPr/>
        </p:nvSpPr>
        <p:spPr>
          <a:xfrm>
            <a:off x="152280" y="6381720"/>
            <a:ext cx="715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зентацию подготовил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09.2019 И.Г.Сухин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7848720" cy="633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7 августа 2019 года президент Международной шахматной федерации (ФИДЕ) Аркадий Владимирович Дворкович сообщил ТАСС, что: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1) шахматы должны использоваться </a:t>
            </a: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«в качестве образовательного инструмента в школах для улучшения интеллектуальных способностей»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;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2) </a:t>
            </a: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«шахматы должны использоваться именно как средство образования, а не как обязательная игра»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менно это изначально заложено в курсе «Шахматы – школе»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позволяет педагогам качественно проводить шахматные занятия.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Рисунок 3" descr="Дворкович.jpg"/>
          <p:cNvPicPr/>
          <p:nvPr/>
        </p:nvPicPr>
        <p:blipFill>
          <a:blip r:embed="rId1"/>
          <a:stretch/>
        </p:blipFill>
        <p:spPr>
          <a:xfrm>
            <a:off x="7667640" y="189000"/>
            <a:ext cx="124128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A1395-A625-4BF6-994F-D2DD48A3C24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153280" cy="5335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ФЕДЕРАЛЬНЫЙ КУРС «ШАХМАТЫ – ШКОЛЕ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8" descr="D:\Мои документы\Мои рисунки\Копия Обложки книг для ШН\Учебник 2 год .jpg"/>
          <p:cNvPicPr/>
          <p:nvPr/>
        </p:nvPicPr>
        <p:blipFill>
          <a:blip r:embed="rId1"/>
          <a:stretch/>
        </p:blipFill>
        <p:spPr>
          <a:xfrm>
            <a:off x="228600" y="2925720"/>
            <a:ext cx="1312920" cy="17985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9" descr="D:\Мои документы\Мои рисунки\Новые фото книг\Марина Духовное возрождение Обложки некоторых новых книг\Chess_cover_metod-2_for_web.jpg"/>
          <p:cNvPicPr/>
          <p:nvPr/>
        </p:nvPicPr>
        <p:blipFill>
          <a:blip r:embed="rId2"/>
          <a:stretch/>
        </p:blipFill>
        <p:spPr>
          <a:xfrm>
            <a:off x="2133720" y="2997360"/>
            <a:ext cx="1184040" cy="1800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0" descr="D:\Мои документы\Мои рисунки\Новые фото всех моих книг\ДВ_Рабтетрадь_2класс_1часть50.jpg"/>
          <p:cNvPicPr/>
          <p:nvPr/>
        </p:nvPicPr>
        <p:blipFill>
          <a:blip r:embed="rId3"/>
          <a:stretch/>
        </p:blipFill>
        <p:spPr>
          <a:xfrm>
            <a:off x="3886200" y="2970360"/>
            <a:ext cx="1317600" cy="18046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1" descr="D:\Мои документы\Мои рисунки\Новые фото книг\ДВ_2год_провер30.jpg"/>
          <p:cNvPicPr/>
          <p:nvPr/>
        </p:nvPicPr>
        <p:blipFill>
          <a:blip r:embed="rId4"/>
          <a:stretch/>
        </p:blipFill>
        <p:spPr>
          <a:xfrm>
            <a:off x="5713560" y="2981160"/>
            <a:ext cx="1201680" cy="18003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2" descr="D:\Мои документы\Задачник_2_год_25пр.jpg"/>
          <p:cNvPicPr/>
          <p:nvPr/>
        </p:nvPicPr>
        <p:blipFill>
          <a:blip r:embed="rId5"/>
          <a:stretch/>
        </p:blipFill>
        <p:spPr>
          <a:xfrm>
            <a:off x="7488360" y="2981160"/>
            <a:ext cx="1220760" cy="18003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3" descr="D:\Мои документы\Мои рисунки\Копия Обложки книг для ШН\Учебник 3 год.jpg"/>
          <p:cNvPicPr/>
          <p:nvPr/>
        </p:nvPicPr>
        <p:blipFill>
          <a:blip r:embed="rId6"/>
          <a:stretch/>
        </p:blipFill>
        <p:spPr>
          <a:xfrm>
            <a:off x="237960" y="4929120"/>
            <a:ext cx="1303560" cy="18050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4" descr="D:\Мои документы\Уучь и учу 3 год25пр.jpg"/>
          <p:cNvPicPr/>
          <p:nvPr/>
        </p:nvPicPr>
        <p:blipFill>
          <a:blip r:embed="rId7"/>
          <a:stretch/>
        </p:blipFill>
        <p:spPr>
          <a:xfrm>
            <a:off x="2135160" y="4932360"/>
            <a:ext cx="1198440" cy="18032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5" descr="D:\Мои документы\Мои рисунки\Новые фото книг\Марина Духовное возрождение Обложки некоторых новых книг\Cover_rt_part_1_____for_web_small.jpg"/>
          <p:cNvPicPr/>
          <p:nvPr/>
        </p:nvPicPr>
        <p:blipFill>
          <a:blip r:embed="rId8"/>
          <a:stretch/>
        </p:blipFill>
        <p:spPr>
          <a:xfrm>
            <a:off x="3854520" y="4959360"/>
            <a:ext cx="1400040" cy="17985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6" descr="D:\Мои документы\Проверочная тетрадь3год25пр.jpg"/>
          <p:cNvPicPr/>
          <p:nvPr/>
        </p:nvPicPr>
        <p:blipFill>
          <a:blip r:embed="rId9"/>
          <a:stretch/>
        </p:blipFill>
        <p:spPr>
          <a:xfrm>
            <a:off x="5746680" y="4943520"/>
            <a:ext cx="1201680" cy="180324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6" descr="Сухин_Шахматы_1год_учебник2017_1часть20пр.jpg"/>
          <p:cNvPicPr/>
          <p:nvPr/>
        </p:nvPicPr>
        <p:blipFill>
          <a:blip r:embed="rId10"/>
          <a:stretch/>
        </p:blipFill>
        <p:spPr>
          <a:xfrm>
            <a:off x="250920" y="981000"/>
            <a:ext cx="1331640" cy="180036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5" descr="Сухин_Шахматы_1год_рабтетрадь2017_1часть15пр.jpg"/>
          <p:cNvPicPr/>
          <p:nvPr/>
        </p:nvPicPr>
        <p:blipFill>
          <a:blip r:embed="rId11"/>
          <a:stretch/>
        </p:blipFill>
        <p:spPr>
          <a:xfrm>
            <a:off x="3840120" y="907920"/>
            <a:ext cx="1308240" cy="1800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0" name="Object 6"/>
          <p:cNvGraphicFramePr/>
          <p:nvPr/>
        </p:nvGraphicFramePr>
        <p:xfrm>
          <a:off x="7483320" y="4941720"/>
          <a:ext cx="1265400" cy="182412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61" name="Object 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7483320" y="4941720"/>
                    <a:ext cx="1265400" cy="182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2" name="Рисунок 18" descr="ДВ_обложка_1год-тетрадь_провер-2019_20пр.jpg"/>
          <p:cNvPicPr/>
          <p:nvPr/>
        </p:nvPicPr>
        <p:blipFill>
          <a:blip r:embed="rId14"/>
          <a:stretch/>
        </p:blipFill>
        <p:spPr>
          <a:xfrm>
            <a:off x="5703840" y="907920"/>
            <a:ext cx="1171800" cy="1797120"/>
          </a:xfrm>
          <a:prstGeom prst="rect">
            <a:avLst/>
          </a:prstGeom>
          <a:ln w="0">
            <a:noFill/>
          </a:ln>
        </p:spPr>
      </p:pic>
      <p:pic>
        <p:nvPicPr>
          <p:cNvPr id="63" name="Рисунок 18" descr="ДВ_обложка_1год-пособие-2019_20пр.jpg"/>
          <p:cNvPicPr/>
          <p:nvPr/>
        </p:nvPicPr>
        <p:blipFill>
          <a:blip r:embed="rId15"/>
          <a:stretch/>
        </p:blipFill>
        <p:spPr>
          <a:xfrm>
            <a:off x="2124000" y="981000"/>
            <a:ext cx="1230480" cy="187812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19" descr="ДВ_обложка_1год-задачник2019_20пр.jpg"/>
          <p:cNvPicPr/>
          <p:nvPr/>
        </p:nvPicPr>
        <p:blipFill>
          <a:blip r:embed="rId16"/>
          <a:stretch/>
        </p:blipFill>
        <p:spPr>
          <a:xfrm>
            <a:off x="7451640" y="928800"/>
            <a:ext cx="1224000" cy="177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597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рс «Шахматы – школе» апробирован в большом количестве отечественных регионов и обеспечен всеми необходимыми материалами.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В него входят: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рабочие программы 4-х лет обучения;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учебники для учеников (в 2-х частях);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пособия для учителя;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рабочие тетради  (в 2-х частях);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) тетради для проверочных работ;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) задачни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416720" cy="633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АК ОБЛЕГЧИТЬ РАБОТУ УЧИТЕЛЯ?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Ключевая фигура на уроке шахмат –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учитель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Главный аспект –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е требовать от учителя невозможного!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Чтобы не превратить уроки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ахмат в профанацию, следует максимально упростить работу педагога, не в ущерб содержательности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Поскольку цель уроков – системное развитие мышления, то преподавать следует по «Шахматно-задачной технологии обучения», легко осваиваемой учителями даже изначально не знающими правил шахматной игр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416720" cy="633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снове научного подхода «Шахматы – школе» – высветить всё то, что могут подарить шахматы детям, и реализовать в учебном курсе, любимом и детьми, и учителями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 уроков шахмат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чётко структурированное, поэтапное развитие мышления детей, а процесс обучения шахматным азам – средство, инструмент, фон, на котором протекает развитие. Именно на это ориентирован курс «Шахматы – школе»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В курсе учтено, что лишь небольшой процент российских учителей начальных классов и воспитателей детских садов умеет играть в шахмат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20640"/>
            <a:ext cx="7772400" cy="568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рс «Шахматы – школе» – это единая, целостная система – волшебный квадрат «Математика, логика, чтение, русский язык» в сердцевине которого находятся шахматы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8120" y="2590560"/>
            <a:ext cx="2743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ШАХМА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3"/>
          <p:cNvSpPr/>
          <p:nvPr/>
        </p:nvSpPr>
        <p:spPr>
          <a:xfrm>
            <a:off x="838080" y="762120"/>
            <a:ext cx="3733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АТЕМАТИЧЕСКИЕ ГОЛОВОЛОМ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4"/>
          <p:cNvSpPr/>
          <p:nvPr/>
        </p:nvSpPr>
        <p:spPr>
          <a:xfrm>
            <a:off x="5334120" y="762120"/>
            <a:ext cx="2743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ОГИЧЕСКИЕ ГОЛОВОЛОМ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1219320" y="4343400"/>
            <a:ext cx="3047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ИТЕРАТУРНЫЕ ГОЛОВОЛОМ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6"/>
          <p:cNvSpPr/>
          <p:nvPr/>
        </p:nvSpPr>
        <p:spPr>
          <a:xfrm>
            <a:off x="5410080" y="4343400"/>
            <a:ext cx="3124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УКВЕННО-РЕЧЕВЫЕ ГОЛОВОЛОМ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7"/>
          <p:cNvSpPr/>
          <p:nvPr/>
        </p:nvSpPr>
        <p:spPr>
          <a:xfrm>
            <a:off x="2666880" y="1676520"/>
            <a:ext cx="1905120" cy="129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2590920" y="1676520"/>
            <a:ext cx="4419360" cy="2904840"/>
            <a:chOff x="2590920" y="1676520"/>
            <a:chExt cx="4419360" cy="2904840"/>
          </a:xfrm>
        </p:grpSpPr>
        <p:sp>
          <p:nvSpPr>
            <p:cNvPr id="76" name="Line 9"/>
            <p:cNvSpPr/>
            <p:nvPr/>
          </p:nvSpPr>
          <p:spPr>
            <a:xfrm flipH="1">
              <a:off x="4571640" y="1676520"/>
              <a:ext cx="205740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Line 10"/>
            <p:cNvSpPr/>
            <p:nvPr/>
          </p:nvSpPr>
          <p:spPr>
            <a:xfrm flipV="1">
              <a:off x="2590920" y="3362400"/>
              <a:ext cx="1981080" cy="121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Line 11"/>
            <p:cNvSpPr/>
            <p:nvPr/>
          </p:nvSpPr>
          <p:spPr>
            <a:xfrm>
              <a:off x="4648320" y="3384720"/>
              <a:ext cx="2361960" cy="9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12T12:53:19Z</dcterms:created>
  <dc:creator>User PC</dc:creator>
  <dc:description/>
  <dc:language>en-US</dc:language>
  <cp:lastModifiedBy>home</cp:lastModifiedBy>
  <dcterms:modified xsi:type="dcterms:W3CDTF">2019-09-10T19:12:26Z</dcterms:modified>
  <cp:revision>114</cp:revision>
  <dc:subject/>
  <dc:title>Курсы для общеобразовательной школы «Шахматы – школе» и «Шахматы в школе»: их научный уровень и сравнительная характеристика. Июль, 2018 г.</dc:title>
</cp:coreProperties>
</file>