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E2B1-D78B-4620-9CCE-CF3F9699A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677E-C2AD-4EA6-A547-B80824C7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A597-8497-41F2-9C44-9B1A71998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BFB7-3E85-433A-8BCD-8A9EC81EF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028C-B102-4F72-97B0-577036EB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CC8B-842D-4715-AED6-582F5C5E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A7B7-5F20-48A2-9FB2-D6C1D2FF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106B-1D19-4885-A8EE-81C35273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A74C-390F-4989-AA48-41DC5BEE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2A61-87FA-4D9D-9594-C82A2E33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D016-2D9A-4F84-9597-50B9A78D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0143-AA45-4080-875F-E7DADDA5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0F75-716A-4EAD-AEE2-D8957E17AF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8156-2A00-4FA0-B17A-CE2E3661CC6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8642160" cy="3384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ФЕДЕРАЛЬНЫЙ КУРС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 «ШАХМАТЫ – ШКОЛЕ»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1994 – 201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9</a:t>
            </a:r>
            <a:br>
              <a:rPr sz="3600"/>
            </a:br>
            <a:br>
              <a:rPr sz="3600"/>
            </a:br>
            <a:r>
              <a:rPr b="1" lang="ru-RU" sz="2400" spc="-1" strike="noStrike">
                <a:solidFill>
                  <a:srgbClr val="808000"/>
                </a:solidFill>
                <a:latin typeface="Times New Roman"/>
              </a:rPr>
              <a:t>Издатель: учебно-методическое объединение «Духовное возрождение»,  г. Обнинс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4005000"/>
            <a:ext cx="6400800" cy="2160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Times New Roman"/>
              </a:rPr>
              <a:t>Автор: И.Г.Сухин, Институт стратегии развития образования РАО, </a:t>
            </a:r>
            <a:r>
              <a:rPr b="1" lang="ru-RU" sz="2400" spc="-1" strike="noStrike">
                <a:solidFill>
                  <a:srgbClr val="808000"/>
                </a:solidFill>
                <a:latin typeface="Times New Roman"/>
              </a:rPr>
              <a:t>г. Моск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2532-03BE-43FD-B1B0-3690F2BD0B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УМК «Шахматы, первый го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1. Программа «Шахматы, первый год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первые опубликована в журналах «Начальная школа» (1994, №9) и «Вестник образования» (1994, №9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двух лет обучения «Шахматы, первый год» и «Шахматы, второй год» были приведены в сборнике «Программы общеобразовательных учреждений. Начальные классы (1 – 4)» (М.: Просвещение, 1996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трёх лет обучения «Шахматы, первый год», «Шахматы, второй год» и «Шахматы, третий год» были приведены в сборниках «Программы общеобразовательных учреждений. Начальные классы (1 – 4)» (М.: Просвещение, 1998), «Программы общеобразовательных учреждений. Начальные классы (1 – 4)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двух частях. Часть вторая» (М.: Просвещение, 2000, 2001, 2002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дельным изданием программы трёх лет обучения вышли в 2010, 2011, 2013 , 2016 и 2019 году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.Г.Сухин «Программы курса «Шахматы – школе»: Для начальных классов общеобразовательных учреждений» (Обнинск: Духовное возрождение, 2010, 2011,  2013, 2016. – 40 с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Интернете программа первого года обучения расположена по адресам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chess555.narod.ru/1god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ttp://suhin.narod.ru/chessprogr1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 2019 году впервые изданы рабочие программы курс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B61E-DD0E-4B15-A2F6-DFFA25A519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2-3.Учебник для начальной школы, первы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2060280"/>
            <a:ext cx="3240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чебник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Там клетки чёрно-белые чудес и тайн полны: Учебник для начальной школы, первый год обучения» (1998, 2009, 2011-2012, 2014, 2017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018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 2009 г. издаётся в двух частя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Рисунок 6" descr="Сухин_Шахматы_1год_учебник2017_1часть20пр.jpg"/>
          <p:cNvPicPr/>
          <p:nvPr/>
        </p:nvPicPr>
        <p:blipFill>
          <a:blip r:embed="rId1"/>
          <a:stretch/>
        </p:blipFill>
        <p:spPr>
          <a:xfrm>
            <a:off x="3564000" y="2374920"/>
            <a:ext cx="2644560" cy="35751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Сухин_Шахматы_1год_учебник2017_2часть20пр.jpg"/>
          <p:cNvPicPr/>
          <p:nvPr/>
        </p:nvPicPr>
        <p:blipFill>
          <a:blip r:embed="rId2"/>
          <a:stretch/>
        </p:blipFill>
        <p:spPr>
          <a:xfrm>
            <a:off x="6372360" y="2349360"/>
            <a:ext cx="263664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795C-817A-49D7-A0F0-D70F1E6F25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ервый в мировой практике учебник  шахматной игры, написанный специально для начальной общеобразовательной школ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чебник содержит самый элементарный шахматный материал, который закрепляется большим количеством уникальных дидактических игр и заданий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смотря на то, что учебник создавался для первого класса начальной школы, его можно использовать на начальном этапе обучения и в других классах школы 1-й ступени, а также в подготовительной к школе группе детского сада. Это обеспечивается тем, что в каждом типе дидактических заданий и игр есть задачи разного уровня сложности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нига входит в учебно-методический комплект «Шахматы, первый год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2918-1735-4B5F-822D-393AFCE33F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4. Пособие для учителя, первы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обие для учите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Учусь и учу» (1999, 2011, 2015, 2019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Рисунок 5" descr="ДВ_обложка_1год-пособие-2019_20пр.jpg"/>
          <p:cNvPicPr/>
          <p:nvPr/>
        </p:nvPicPr>
        <p:blipFill>
          <a:blip r:embed="rId1"/>
          <a:stretch/>
        </p:blipFill>
        <p:spPr>
          <a:xfrm>
            <a:off x="5410080" y="1916280"/>
            <a:ext cx="28339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D37E-F950-4AD3-89FF-BAF77338EE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Эта книга</a:t>
            </a:r>
            <a:r>
              <a:rPr b="1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ервое в мировой практике шахматное пособие для учителей начальных классов, не обладающих большими знаниями в области шахмат. Данное пособие разработано к учебнику для первого года обучения «Шахматы, первый год, или Там клетки черно-белые чудес и тайн полны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особии подробно изложена методика проведения каждого урок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В начале каждой главы-урока учителю объясняются необходимые шахматные сведения. Обилие в пособии занимательных заданий, увлекательных дидактических игр позволит педагогу сделать каждое занятие праздником для ребят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нига адресована учителям начальных классов, воспитателям подготовительных групп детского сада, тренерам-преподавателям, а также родителя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FBEC-1B46-4DC6-9BEB-C2CCA82409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5-6. Рабочие тетради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первы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916280"/>
            <a:ext cx="3527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бочие тетрад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Там клетки чёрно-белые чудес и тайн полны: Рабочая тетрадь: Часть 1» (2004, 200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013, 2016-20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Там клетки чёрно-белые чудес и тайн полны: Рабочая тетрадь: Часть 2» (200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014, 2016-20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Рисунок 5" descr="Сухин_Шахматы_1год_рабтетрадь2017_1часть15пр.jpg"/>
          <p:cNvPicPr/>
          <p:nvPr/>
        </p:nvPicPr>
        <p:blipFill>
          <a:blip r:embed="rId1"/>
          <a:stretch/>
        </p:blipFill>
        <p:spPr>
          <a:xfrm>
            <a:off x="3551400" y="2708280"/>
            <a:ext cx="2525400" cy="34750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6" descr="Сухин_Шахматы_1год_рабтетрадь2017_2часть15пр.jpg"/>
          <p:cNvPicPr/>
          <p:nvPr/>
        </p:nvPicPr>
        <p:blipFill>
          <a:blip r:embed="rId2"/>
          <a:stretch/>
        </p:blipFill>
        <p:spPr>
          <a:xfrm>
            <a:off x="6372360" y="2698920"/>
            <a:ext cx="25207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DCC8-7BBA-40D4-94E3-8AF937D208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чие тетради содержат занимательные задания, которые помогут ребёнку освоить основы шахматной игры. Работая с тетрадями, ребёнок будет помогать рассеянному художнику: исправлять его ошибки, отгадывать загадки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абочие тетради включён материал, соответствующий Программе «Шахматы, первый год», учебнику  «Шахматы, первый год, или Там клетки чёрно-белые чудес и тайн полны», пособию для учителя «Шахматы, первый год, или Учусь и учу»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9C68-5752-4AED-905E-CCD0A59158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7. Тетрадь для проверочных работ, 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первый год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ь для проверочных рабо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Там клетки чёрно-белые чудес и тайн полны: Тетрадь для проверочных работ» (2005-2006, 2008, 2010-2011, 2013, 2014, 2016-201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Рисунок 6" descr="ДВ_обложка_1год-тетрадь_провер-2019_20пр.jpg"/>
          <p:cNvPicPr/>
          <p:nvPr/>
        </p:nvPicPr>
        <p:blipFill>
          <a:blip r:embed="rId1"/>
          <a:stretch/>
        </p:blipFill>
        <p:spPr>
          <a:xfrm>
            <a:off x="5580000" y="1825560"/>
            <a:ext cx="287964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D38A-4C98-4D10-8F85-B715833E70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ждая из 15-ти проверочных работ содержит 16 вопросов (заданий), рассчитана на 10-15 минут и расположена на отдельном листе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ая задача издания - обеспечить текущий контроль после прохождения каждой крупной темы учебной программы. Возможны два равноценных варианта проведения контроля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Перед каждой проверочной работой учащимся выдаются сами тетради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Ученикам выдаются только листы с текущей проверочной работой, заранее вырезанные из тетради. Поэтому на каждом листе есть графы "номер школы и класса", "фамилия ученика" и т.п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может быть использована на различных этапах учебного процесса для фронтальной, групповой, индивидуальной работы, для занятий в парах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B41F-447F-4376-B7F7-92EC9DB983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8. Задачник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первы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800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н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дачи к курсу «Шахматы - школе». Первый год обучения. 1500 малофигурных позиций» (2012, 2016, 2017, 2019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имечание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Первоначальное название задачника - «Шахматы, первый год. Задачник, мат в один ход. 1500 малофигурных позиций» (2006-2007, 2009, 201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Рисунок 5" descr="ДВ_обложка_1год-задачник2019_20пр.jpg"/>
          <p:cNvPicPr/>
          <p:nvPr/>
        </p:nvPicPr>
        <p:blipFill>
          <a:blip r:embed="rId1"/>
          <a:stretch/>
        </p:blipFill>
        <p:spPr>
          <a:xfrm>
            <a:off x="5483160" y="1916280"/>
            <a:ext cx="29764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2E38-0A42-4BCD-9DD5-D3268593B3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Федеральный курс</a:t>
            </a:r>
            <a:r>
              <a:rPr b="1" lang="en-US" sz="32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«Шахматы - школ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6" descr="D:\Мои документы\Мои рисунки\Копия Обложки книг для ШН\Учебник 3 год.jpg"/>
          <p:cNvPicPr/>
          <p:nvPr/>
        </p:nvPicPr>
        <p:blipFill>
          <a:blip r:embed="rId1"/>
          <a:stretch/>
        </p:blipFill>
        <p:spPr>
          <a:xfrm>
            <a:off x="6781680" y="3618000"/>
            <a:ext cx="2343240" cy="3240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Сухин_Шахматы_1год_учебник2017_1часть20пр.jpg"/>
          <p:cNvPicPr/>
          <p:nvPr/>
        </p:nvPicPr>
        <p:blipFill>
          <a:blip r:embed="rId2"/>
          <a:stretch/>
        </p:blipFill>
        <p:spPr>
          <a:xfrm>
            <a:off x="2178000" y="3621240"/>
            <a:ext cx="2394000" cy="32367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8" descr="Сухин_Шахматы_2год_учебник2017_1часть20пр.jpg"/>
          <p:cNvPicPr/>
          <p:nvPr/>
        </p:nvPicPr>
        <p:blipFill>
          <a:blip r:embed="rId3"/>
          <a:stretch/>
        </p:blipFill>
        <p:spPr>
          <a:xfrm>
            <a:off x="4541760" y="538200"/>
            <a:ext cx="2262240" cy="31068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8" descr="Рабочие_программы_Шахматы-школе2019-450кб_40пр.jpg"/>
          <p:cNvPicPr/>
          <p:nvPr/>
        </p:nvPicPr>
        <p:blipFill>
          <a:blip r:embed="rId4"/>
          <a:stretch/>
        </p:blipFill>
        <p:spPr>
          <a:xfrm>
            <a:off x="108000" y="623880"/>
            <a:ext cx="20876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6818-A238-4DD1-AF36-29EA3A1818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мение объявить противнику мат – основа шахматного искусства. Однако в море шахматной литературы незаслуженно забытой оказалась важнейшая ступень обучения – задачи на мат в один ход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задачник включён материал, соответствующий Программе «Шахматы, первый год», учебнику  для школьников «Шахматы, первый год, или Там клетки чёрно-белые чудес и тайн полны» и пособию для учителя «Шахматы, первый год, или Учусь и учу»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сборнике 1500 задач: 1242 чётко структурированные трёх-, четырёх- и пятифигурные позиции-схемы, охватывающие все типичные матовые конструкции для данного количества фигур и практикум из 258 учебных положений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B024-2CA3-4ACF-8A91-4492A84DE1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УМК «Шахматы, второй го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1. Программа «Шахматы, второй год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первые опубликована в журналах «Начальная школа» (1995, №8) и «Вестник образования» (1995, №9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двух лет обучения «Шахматы, первый год» и «Шахматы, второй год» были приведены в сборнике «Программы общеобразовательных учреждений. Начальные классы (1 – 4)» (М.: Просвещение, 1996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трёх лет обучения «Шахматы, первый год», «Шахматы, второй год» и «Шахматы, третий год» были приведены в сборниках «Программы общеобразовательных учреждений. Начальные классы (1 – 4)» (М.: Просвещение, 1998), «Программы общеобразовательных учреждений. Начальные классы (1 – 4)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двух частях. Часть вторая» (М.: Просвещение, 2000, 2001, 2002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дельным изданием программы трёх лет обучения вышли в 2010, 2011, 2013, 2016 и 2019 году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.Г.Сухин «Программы курса «Шахматы – школе»: Для начальных классов общеобразовательных учреждений» (Обнинск: Духовное возрождение, 2010, 2011, 2013, 2016. – 40 с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Интернете программа второго года обучения расположена по адресам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chess555.narod.ru/2god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ttp://suhin.narod.ru/chessprogr2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 2019 году впервые изданы рабочие программы курс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ECE5-BD4A-4937-B08F-BB49F26450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2-3. Учебник для начальной школы, второ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960" y="1916280"/>
            <a:ext cx="34160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еб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Шахматы, второй год, или Играем и выигрываем: Учебник для начальной школы, второй год обучения» (2003, 2007, 2008-2009, 2011, 2014, 2017, 2019).  С 2008 года издаётся в двух частя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Рисунок 6" descr="Сухин_Шахматы_2год_учебник2017_1часть20пр.jpg"/>
          <p:cNvPicPr/>
          <p:nvPr/>
        </p:nvPicPr>
        <p:blipFill>
          <a:blip r:embed="rId1"/>
          <a:stretch/>
        </p:blipFill>
        <p:spPr>
          <a:xfrm>
            <a:off x="3276720" y="2335320"/>
            <a:ext cx="2735280" cy="37576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7" descr="Сухин_Шахматы_2год_учебник2017_2часть_20пр.jpg"/>
          <p:cNvPicPr/>
          <p:nvPr/>
        </p:nvPicPr>
        <p:blipFill>
          <a:blip r:embed="rId2"/>
          <a:stretch/>
        </p:blipFill>
        <p:spPr>
          <a:xfrm>
            <a:off x="6284880" y="2349360"/>
            <a:ext cx="275112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364C-FB85-4B7C-9222-DF1B87C89C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ный учебник продолжает курс начального обучения шахматной игре и следует за учебником «Шахматы, первый год, или Там клетки чёрно-белые чудес и тайн полны». Теория шахматной игры закрепляется при помощи большого количества дидактических заданий и игр, с преимущественным использованием иллюстративного материала содержательного характера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ебник предназначен для второго класса, однако может быть использован на занятиях в других классах. Это обеспечивается тем, что в каждом разделе учащимся предлагаются как простые, так и сложные задания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 учебнику «Шахматы, второй год, или Играем и выигрываем» разработано методическое пособие для учителя (и родителей) «Шахматы: второй год, или Учусь и учу»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3C7C-B135-4003-AD28-22914F8C32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4. Пособие для учителя, второ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обие для учител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Шахматы, второй год, или Учусь и учу» (2004, 2008, 2012, 201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9" descr="D:\Мои документы\Мои рисунки\Новые фото книг\Марина Духовное возрождение Обложки некоторых новых книг\Chess_cover_metod-2_for_web.jpg"/>
          <p:cNvPicPr/>
          <p:nvPr/>
        </p:nvPicPr>
        <p:blipFill>
          <a:blip r:embed="rId1"/>
          <a:stretch/>
        </p:blipFill>
        <p:spPr>
          <a:xfrm>
            <a:off x="5334120" y="2057400"/>
            <a:ext cx="279540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76C1-8FC2-4BF9-9CA3-65C58CBDA3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данном пособии объясняется, как учителю с минимальной шахматной подготовкой проводить занятия с учениками второго года обучения по учебнику «Шахматы, второй год, или Играем и выигрываем». Пособие будет интересно и родителям, помогающим своим детям освоить основы шахматной игры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ля педагогов, знакомых с шахматами только по материалам УМК «Шахматы, первый год», сделаны необходимые разъяснения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особии детально описывается каждый из 33 уроков, приводится большая часть заданий из учебника с решениями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7568-54A3-4137-A86A-3ECB379032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5-6. Рабочие тетради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второ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320" y="1916280"/>
            <a:ext cx="3558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чие тетрад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второй год, или Играем и выигрываем: Рабочая тетрадь: Часть 1» (2005-2007, 2009-2010, 2012-2013, 2015, 2017-20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второй год, или Играем и выигрываем: Рабочая тетрадь: Часть 2» (2006-2007, 2009-2010, 2012-2013, 2015, 2017-20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D:\Мои документы\Мои рисунки\Новые фото всех моих книг\ДВ_Рабтетрадь_2класс_1часть50.jpg"/>
          <p:cNvPicPr/>
          <p:nvPr/>
        </p:nvPicPr>
        <p:blipFill>
          <a:blip r:embed="rId1"/>
          <a:stretch/>
        </p:blipFill>
        <p:spPr>
          <a:xfrm>
            <a:off x="3851280" y="2673360"/>
            <a:ext cx="2449440" cy="33480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6" descr="ДВ_Рабтетрадь_2класс_2часть_20пр.jpg"/>
          <p:cNvPicPr/>
          <p:nvPr/>
        </p:nvPicPr>
        <p:blipFill>
          <a:blip r:embed="rId2"/>
          <a:stretch/>
        </p:blipFill>
        <p:spPr>
          <a:xfrm>
            <a:off x="6516720" y="2678040"/>
            <a:ext cx="24480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CB25-BC85-4F8D-95B6-70B695C554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и содержат занимательные задания, которые помогут ребёнку освоить основы шахматной игры. Работая с тетрадями, ребёнок будет помогать рассеянному художнику: исправлять его ошибки, отгадывать загадки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рабочие тетради включён материал, соответствующий Программе «Шахматы, второй год», учебнику  для школьников «Шахматы, второй год, или Играем и выигрываем» и пособию для учителя «Шахматы, второй год, или Учусь и учу»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и предназначены для второго года обучения в любом классе начальной школы. В случае применения тетрадей в первом классе не обязательно выполнять задания, связанные с использованием шахматной нотации и записью, а решения большей части задач можно показывать только стрелка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C950-C8F6-4421-BC47-63FB928D29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7. Тетрадь для проверочных работ, 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второй год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ь для проверочных рабо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Шахматы, второй год, или Играем и выигрываем: Тетрадь для проверочных работ» (2008, 2013, 2015, 2018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9" descr="D:\Мои документы\Мои рисунки\Новые фото книг\ДВ_2год_провер30.jpg"/>
          <p:cNvPicPr/>
          <p:nvPr/>
        </p:nvPicPr>
        <p:blipFill>
          <a:blip r:embed="rId1"/>
          <a:stretch/>
        </p:blipFill>
        <p:spPr>
          <a:xfrm>
            <a:off x="5076720" y="1974960"/>
            <a:ext cx="25909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18AA-C3A9-49E3-BD24-D8375B31AA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предназначена для второго года обучения в любом классе начальной школы. Каждая из 15-ти проверочных работ рассчитана на 15-25 минут и расположена на отдельном листе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ая задача издания - обеспечить текущий контроль после прохождения каждой крупной темы учебной программы. Возможны два равноценных варианта проведения контроля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Перед каждой проверочной работой учащимся выдаются сами тетради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Ученикам выдаются только листы с текущей проверочной работой, заранее вырезанные из тетради. Поэтому на каждом листе есть графы "номер школы и класса", "фамилия ученика" и т.п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может быть использована на различных этапах учебного процесса для фронтальной, групповой, индивидуальной работы, для занятий в парах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5064-9218-43C2-AA7D-9408F01F52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лавная цель курса «Шахматы - школе» – поэтапное развитие способности детей действовать «в уме»</a:t>
            </a:r>
            <a:br>
              <a:rPr sz="1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60-е годы ХХ века было установлено, что </a:t>
            </a:r>
            <a:r>
              <a:rPr b="1" i="1" lang="ru-RU" sz="2200" spc="-1" strike="noStrike">
                <a:solidFill>
                  <a:srgbClr val="00cc99"/>
                </a:solidFill>
                <a:latin typeface="Times New Roman"/>
              </a:rPr>
              <a:t>важнейшая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не сводимая к простому накоплению знаний и умений интеллектуальная способность, которая развивается в ходе обучения, –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это способность действовать «в уме»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Эта способность является одним из важнейших показателей общего развития психики человека, представляет собой нерасторжимое единство воображения, внимания, памяти и мышления 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аключается в возможности человека оперировать в мысленном плане с заместителями реальных предметов (не совершая с ними развернутых операций в пространстве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витие способности действовать «в уме» важно для всех видов деятельности человека, так как каждый из них требует выполнения операций в определённой последовательност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C21F-B45F-437A-A12A-AF2CC30F57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8. Задачник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второ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н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дачи к курсу «Шахматы - школе». Второй год обучения» (2012, 2015, 20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7" descr="D:\Мои документы\Задачник_2_год_25пр.jpg"/>
          <p:cNvPicPr/>
          <p:nvPr/>
        </p:nvPicPr>
        <p:blipFill>
          <a:blip r:embed="rId1"/>
          <a:stretch/>
        </p:blipFill>
        <p:spPr>
          <a:xfrm>
            <a:off x="5003640" y="1887480"/>
            <a:ext cx="300996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D755-93F7-497B-8D71-ACDD348A98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УМК «Шахматы, третий го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1. Программа «Шахматы, третий год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первые опубликована в журналах «Начальная школа» (1997, №10) и Образование» (1998, №4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граммы трёх лет обучения «Шахматы, первый год», «Шахматы, второй год» и «Шахматы, третий год» были приведены в сборниках «Программы общеобразовательных учреждений. Начальные классы (1 – 4)» (М.: Просвещение, 1998), «Программы общеобразовательных учреждений. Начальные классы (1 – 4)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двух частях. Часть вторая» (М.: Просвещение, 2000, 2001, 200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дельным изданием программы трёх лет обучения вышли в 2010, 2011, 2013, 2016 и 2019 году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.Г.Сухин «Программы курса «Шахматы – школе»: Для начальных классов общеобразовательных учреждений» (Обнинск: Духовное возрождение, 2010, 2011, 2013, 2016. – 40 с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Интернете программа третьего года обучения расположена по адресам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ttp://chess555.narod.ru/3god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http://suhin.narod.ru/chessprogr3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2019 году впервые изданы рабочие программы курс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B0B2-BE3B-4416-AD35-FCE56476E7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2-3. Учебник для начальной школы, трети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320" y="1844280"/>
            <a:ext cx="32716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Учебни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Тайны королевской игры: Учебник для начальной школы, третий год обучения: В 2-х частях» (2008, 2014, 2018, 201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6" descr="D:\Мои документы\Мои рисунки\Копия Обложки книг для ШН\Учебник 3 год.jpg"/>
          <p:cNvPicPr/>
          <p:nvPr/>
        </p:nvPicPr>
        <p:blipFill>
          <a:blip r:embed="rId1"/>
          <a:stretch/>
        </p:blipFill>
        <p:spPr>
          <a:xfrm>
            <a:off x="3564000" y="2525760"/>
            <a:ext cx="2525760" cy="34956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6" descr="ДВ_3год_учебник_Ч2_20пр.jpg"/>
          <p:cNvPicPr/>
          <p:nvPr/>
        </p:nvPicPr>
        <p:blipFill>
          <a:blip r:embed="rId2"/>
          <a:stretch/>
        </p:blipFill>
        <p:spPr>
          <a:xfrm>
            <a:off x="6432480" y="2492280"/>
            <a:ext cx="25621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273C-CECD-4D15-B2AD-097747A1BC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ный учебник продолжает курс начального обучения шахматной игре и следует за учебниками «Шахматы, первый год, или Там клетки чёрно-белые чудес и тайн полны» и «Шахматы, второй год, или Играем и выигрываем». Теория шахматной игры закрепляется при помощи большого количества дидактических заданий и игр, с преимущественным использованием иллюстративного материала содержательного характера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ебник предназначен для третьего класса начальной школы, однако может быть использован на занятиях в других классах. Это обеспечивается тем, что в каждом разделе учащимся предлагаются как простые, так и сложные задания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 учебнику «Шахматы, третий год, или Тайны королевской игры» разработано методическое пособие для учителя (и родителей) «Шахматы, третий год, или Учусь и учу»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A07E-4FF3-4AEB-80F2-F9B9A76A39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4. Пособие для учителя, трети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обие для учител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Учусь и учу» (2009, 2013, 201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7" descr="D:\Мои документы\Уучь и учу 3 год25пр.jpg"/>
          <p:cNvPicPr/>
          <p:nvPr/>
        </p:nvPicPr>
        <p:blipFill>
          <a:blip r:embed="rId1"/>
          <a:stretch/>
        </p:blipFill>
        <p:spPr>
          <a:xfrm>
            <a:off x="5181480" y="1981080"/>
            <a:ext cx="2846520" cy="42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2FE9-20A7-453B-BEA8-CC0B68F291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особии объясняется, как учителю с минимальной шахматной подготовкой проводить занятия с учениками третьего года обучения по учебнику «Шахматы, третий год, или Тайны королевской игры». Самое серьёзное внимание уделяется нестандартным занимательным заданиям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собие будет полезно и родителям, помогающим своим детям  освоить основы шахматной игры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ля педагогов, знакомых с шахматами только по материалам УМК «Шахматы, первый год» и «Шахматы, второй год», сделаны необходимые разъяснения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особии описывается каждый из 66 уроков, приводится большая часть заданий из учебника с решениями.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7550-C79C-4EB0-87E7-4F660E711F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5-6. Рабочие тетради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трети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0920" y="1980720"/>
            <a:ext cx="342108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чие тетрад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Тайны королевской игры: Рабочая тетрадь: Часть 1» (2010, 2012, 2014-2015, 2018, 20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Тайны королевской игры: Рабочая тетрадь: Часть 2» (2010, 2012, 2014, 2015, 2018, 20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5" descr="D:\Мои документы\Мои рисунки\Новые фото книг\Марина Духовное возрождение Обложки некоторых новых книг\Cover_rt_part_1_____for_web_small.jpg"/>
          <p:cNvPicPr/>
          <p:nvPr/>
        </p:nvPicPr>
        <p:blipFill>
          <a:blip r:embed="rId1"/>
          <a:stretch/>
        </p:blipFill>
        <p:spPr>
          <a:xfrm>
            <a:off x="3419640" y="2359080"/>
            <a:ext cx="2736720" cy="35161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5" descr="ДВ_3год_Рабочаятетрадь2Ч-25пр.jpg"/>
          <p:cNvPicPr/>
          <p:nvPr/>
        </p:nvPicPr>
        <p:blipFill>
          <a:blip r:embed="rId2"/>
          <a:stretch/>
        </p:blipFill>
        <p:spPr>
          <a:xfrm>
            <a:off x="6291360" y="2349360"/>
            <a:ext cx="267336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6B9B-BEA1-4836-A427-3777AB84A1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и содержат занимательные задания, которые помогут ребёнку освоить основы шахматной игры. Работая с тетрадями, ребёнок будет помогать рассеянному художнику: исправлять его ошибки, отгадывать загадки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абочие тетради включён материал, соответствующий Программе «Шахматы, третий год», учебнику  для школьников «Шахматы, третий год, или Тайны королевской игры» и пособию для учителя «Шахматы, третий год, или Учусь и учу»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и предназначены для третьего года обучения в любом классе начальной шко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801C-EDD1-4AD3-8B56-5582747E51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7. Тетрадь для проверочных работ, 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третий год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34560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ь для проверочных рабо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Тайны королевской игры: Тетрадь для проверочных работ» (2011, 2013, 2014, 2016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6" descr="D:\Мои документы\Проверочная тетрадь3год25пр.jpg"/>
          <p:cNvPicPr/>
          <p:nvPr/>
        </p:nvPicPr>
        <p:blipFill>
          <a:blip r:embed="rId1"/>
          <a:stretch/>
        </p:blipFill>
        <p:spPr>
          <a:xfrm>
            <a:off x="4984920" y="1916280"/>
            <a:ext cx="282708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4527-0AED-45E6-AE5F-78C5001100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предназначена для третьего года обучения в любом классе начальной школы. Каждая из 15-ти проверочных работ рассчитана на 15-25 минут и расположена на отдельном листе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ая задача издания - обеспечить текущий контроль после прохождения каждой крупной темы учебной программы. Возможны два равноценных варианта проведения контроля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Перед каждой проверочной работой учащимся выдаются сами тетради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Ученикам выдаются только листы с текущей проверочной работой, заранее вырезанные из тетради. Поэтому на каждом листе есть графы "номер школы и класса", "фамилия ученика" и т.п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может быть использована на различных этапах учебного процесса для фронтальной, групповой, индивидуальной работы, для занятий в парах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2A1B-0136-488D-BFB6-093D2D1B2C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звестно, что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ность действовать «в уме»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обходимо специально развивать, причем её развитие – процесс медленный, предполагающий длительное умственное воспитание детей и завершающийся приблизительно в 12 лет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иболее интенсивно эта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ность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вивается в младшем возрасте, но в общеизвестных системах обучения она целенаправленно не формируется. По этой причине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ность действовать «в уме»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остигает оптимального развития всего у 5% людей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Чётко структурированное обучение детей основам шахматной игры является тем оптимальным средством, которое позволяет развить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ность действовать «в уме»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се составляющие курса «Шахматы - школе» и были разработаны для достижения этой глобальной цели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F6E2-AAFA-4867-B7CC-14D07BA80D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8. Задачник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трети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н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дачи к курсу «Шахматы - школе». Третий год обучения» (20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Object 6"/>
          <p:cNvGraphicFramePr/>
          <p:nvPr/>
        </p:nvGraphicFramePr>
        <p:xfrm>
          <a:off x="5076720" y="1909800"/>
          <a:ext cx="3024360" cy="43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909800"/>
                    <a:ext cx="3024360" cy="43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B43F-2440-40DD-AEAC-EA71D8BAE5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задачник третьего года обучения включён материал, соответствующий Программе «Шахматы, третий год», учебнику  для школьников «Шахматы, третий год, или Тайны королевской игры» и пособию для учителя «Шахматы, третий год, или Учусь и учу».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резентацию подготовил в 2010 году: И.Г.Сухин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оррекция от 0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.09.2019.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BC82-E229-414E-8332-B91A9FE604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6091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Рабочие программ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Шахматы – школе. Рабочие программ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-4 годы обучения (20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Рисунок 5" descr="Рабочие_программы_Шахматы-школе2019-450кб_40пр.jpg"/>
          <p:cNvPicPr/>
          <p:nvPr/>
        </p:nvPicPr>
        <p:blipFill>
          <a:blip r:embed="rId1"/>
          <a:stretch/>
        </p:blipFill>
        <p:spPr>
          <a:xfrm>
            <a:off x="4754520" y="1494000"/>
            <a:ext cx="3273480" cy="47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FCBC-629E-4714-85D1-DFBDC4DDA9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9280" y="33336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ограммы курса "Шахматы – школе" реализуют системно-деятельностный подход и разработаны в соответствии с требованиями Федерального государственного образовательного стандарта начального общего образования и основной образовательной программы начального общего образования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ограммы адресованы в первую очередь учителям общеобразовательных организаций и ориентированы на достижение значимой для начальной школы цели – развития у детей фундаментальной способности действовать "в уме" с использованием инновационной здоровьесберегающей шахматно-задачной технологии обучения и системы занимательных дидактических заданий и игр. При реализации данных программ формируются широкие межпредметные связи с основными дисциплинами начальной школ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учный подход, заложенный в программах курса "Шахматы – школе", обеспечил России ряд приоритетов в области шахматного образовани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4453-6F03-44C9-9001-226D7B01A2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00"/>
                </a:solidFill>
                <a:latin typeface="Times New Roman"/>
              </a:rPr>
              <a:t>Федеральный курс «Шахматы – школе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ключает в себя следующие учебно-методические комплекты (УМК) :  УМК «Шахматы, первый год», УМК «Шахматы, второй год», УМК «Шахматы, третий год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В УМК «Шахматы, первый год» входят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Программа «Шахматы, первый год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-3. Учебник «Шахматы, первый год, или Там клетки чёрно-белые чудес и тайн полны: Часть 1», «…Часть 2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Пособие для учителя «Шахматы, первый год, или Учусь и учу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-6. Рабочие тетради «Шахматы, первый год, или Там клетки чёрно-белые чудес и тайн полны: Рабочая тетрадь: Часть 1», «…Часть 2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Тетрадь для проверочных работ «Шахматы, первый год, или Там клетки чёрно-белые чудес и тайн полны: Тетрадь для проверочных работ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Задачник «Задачи к курсу «Шахматы - школе». Первый год обучения. 1500 малофигурных позиций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0FFB-A6A9-4EFF-B569-8716DFF568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В УМК «Шахматы, второй год» входят: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Программа «Шахматы, второй год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-3. Учебник «Шахматы, второй год, или Играем и выигрываем: Часть 1», «…Часть 2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Пособие для учителя «Шахматы, второй год, или Учусь и учу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-6. Рабочие тетради «Шахматы, второй год, или Играем и выигрываем: Рабочая тетрадь: Часть 1», «…Часть 2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. Тетрадь для проверочных работ «Шахматы, второй год, или Играем и выигрываем: Тетрадь для проверочных работ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. Задачник «Задачи к курсу «Шахматы - школе»: Второй год обучения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В УМК «Шахматы, третий год» входят: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Программа «Шахматы, третий год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-3. Учебник «Шахматы, третий год, или Тайны королевской игры: Часть 1», «…Часть 2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Пособие для учителя «Шахматы, третий год, или Учусь и учу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-6. Рабочие тетради «Шахматы, третий год, или Тайны королевской игры: Рабочая тетрадь: Часть 1», «…Часть 2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. Тетрадь для проверочных работ «Шахматы, третий год, или Тайны королевской игры: Тетрадь для проверочных работ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. Задачник «Задачи к курсу «Шахматы - школе»: Третий год обучения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7724-0C9D-4ED1-9DB4-71367DCFD44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6" name="Picture 1026" descr="D:\Мои документы\1god_progr.jpg"/>
          <p:cNvPicPr/>
          <p:nvPr/>
        </p:nvPicPr>
        <p:blipFill>
          <a:blip r:embed="rId1"/>
          <a:stretch/>
        </p:blipFill>
        <p:spPr>
          <a:xfrm>
            <a:off x="1547640" y="1916280"/>
            <a:ext cx="6110640" cy="44258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8000"/>
                </a:solidFill>
                <a:latin typeface="Times New Roman"/>
              </a:rPr>
              <a:t>Программы курс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20:28:55Z</dcterms:created>
  <dc:creator>suhin</dc:creator>
  <dc:description/>
  <dc:language>en-US</dc:language>
  <cp:lastModifiedBy>home</cp:lastModifiedBy>
  <dcterms:modified xsi:type="dcterms:W3CDTF">2019-09-08T07:59:59Z</dcterms:modified>
  <cp:revision>363</cp:revision>
  <dc:subject/>
  <dc:title>И.Г.Сухин</dc:title>
</cp:coreProperties>
</file>