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2C8-30BA-471B-99E3-62B88280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94B-5888-4940-BD25-6E1C9BDA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F67-301C-43D8-9118-94C27D46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EA2-1270-4D6B-AB44-93843716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AB6-B444-4AD5-9345-5DFFC444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B60-0ECC-4111-A7BF-0917D8C0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7EA-E5A4-49FF-843C-97F35F62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A02-0C94-4D11-A0D9-3AF8A708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88C3-5315-46C9-BBA6-6973B8B8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9A5-2A69-4225-BA2A-E8393B01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99B-54B3-4391-9ADC-804A764A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A48-31C7-4EDF-8D49-60591AE2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6603-B381-4B19-B993-BA0D4AA926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566B-578E-45C9-BD6F-775E998AD1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3384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 «ШАХМАТЫ – ШКОЛЕ»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1994 – 201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9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Издатель: учебно-методическое объединение «Духовное возрождение»,  г. Обнин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005000"/>
            <a:ext cx="6400800" cy="216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Автор: И.Г.Сухин, Институт стратегии развития образования РАО, </a:t>
            </a: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г. 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1069-7BA2-4447-BDCA-990CA799DB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первы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первы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4, №9) и «Вестник образования» (1994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 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перв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1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1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907D-A2CD-4A33-9D56-FE04F9FDB7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Учебник для начальной школы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2060280"/>
            <a:ext cx="324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Учебник для начальной школы, первый год обучения» (1998, 2009, 2011-2012, 2014, 2017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1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2009 г. издаётся в двух частя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6" descr="Сухин_Шахматы_1год_учебник2017_1часть20пр.jpg"/>
          <p:cNvPicPr/>
          <p:nvPr/>
        </p:nvPicPr>
        <p:blipFill>
          <a:blip r:embed="rId1"/>
          <a:stretch/>
        </p:blipFill>
        <p:spPr>
          <a:xfrm>
            <a:off x="3564000" y="2374920"/>
            <a:ext cx="264456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Сухин_Шахматы_1год_учебник2017_2часть20пр.jpg"/>
          <p:cNvPicPr/>
          <p:nvPr/>
        </p:nvPicPr>
        <p:blipFill>
          <a:blip r:embed="rId2"/>
          <a:stretch/>
        </p:blipFill>
        <p:spPr>
          <a:xfrm>
            <a:off x="6372360" y="2349360"/>
            <a:ext cx="2636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0D6A-8EF4-44B4-950A-36A50481D4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ый в мировой практике учебник  шахматной игры, написанный специально для начальной общеобразовате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 содержит самый элементарный шахматный материал, который закрепляется большим количеством уникальных дидактических игр и зада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смотря на то, что учебник создавался для первого класса начальной школы, его можно использовать на начальном этапе обучения и в других классах школы 1-й ступени, а также в подготовительной к школе группе детского сада. Это обеспечивается тем, что в каждом типе дидактических заданий и игр есть задачи разного уровня сложн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входит в учебно-методический комплект «Шахматы, первый год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09F4-6C5A-43FB-9EA8-FFC811CB88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Учусь и учу» (1999, 2011, 2015, 201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ДВ_обложка_1год-пособие-2019_20пр.jpg"/>
          <p:cNvPicPr/>
          <p:nvPr/>
        </p:nvPicPr>
        <p:blipFill>
          <a:blip r:embed="rId1"/>
          <a:stretch/>
        </p:blipFill>
        <p:spPr>
          <a:xfrm>
            <a:off x="5410080" y="1916280"/>
            <a:ext cx="2833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205F-3E69-45A2-9AD9-96EEC442E2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книга</a:t>
            </a:r>
            <a:r>
              <a:rPr b="1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ое в мировой практике шахматное пособие для учителей начальных классов, не обладающих большими знаниями в области шахмат. Данное пособие разработано к учебнику для первого года обучения «Шахматы, первый год, или Там клетки черно-белые чудес и тайн полны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подробно изложена методика проведения каждого урок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В начале каждой главы-урока учителю объясняются необходимые шахматные сведения. Обилие в пособии занимательных заданий, увлекательных дидактических игр позволит педагогу сделать каждое занятие праздником для ребя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адресована учителям начальных классов, воспитателям подготовительных групп детского сада, тренерам-преподавателям, а также родителя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0858-42AA-4E54-BE48-CCBC7D52B2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52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1» (2004, 200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3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2» (200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4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5" descr="Сухин_Шахматы_1год_рабтетрадь2017_1часть15пр.jpg"/>
          <p:cNvPicPr/>
          <p:nvPr/>
        </p:nvPicPr>
        <p:blipFill>
          <a:blip r:embed="rId1"/>
          <a:stretch/>
        </p:blipFill>
        <p:spPr>
          <a:xfrm>
            <a:off x="3551400" y="2708280"/>
            <a:ext cx="2525400" cy="3475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Сухин_Шахматы_1год_рабтетрадь2017_2часть15пр.jpg"/>
          <p:cNvPicPr/>
          <p:nvPr/>
        </p:nvPicPr>
        <p:blipFill>
          <a:blip r:embed="rId2"/>
          <a:stretch/>
        </p:blipFill>
        <p:spPr>
          <a:xfrm>
            <a:off x="6372360" y="2698920"/>
            <a:ext cx="2520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B4ED-DE46-4BA8-AD48-8BBF4E8E79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первый год», учебнику  «Шахматы, первый год, или Там клетки чёрно-белые чудес и тайн полны», пособию для учителя «Шахматы, первы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E9F1-C603-419A-A580-D166F3E5CB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Тетрадь для проверочных работ» (2005-2006, 2008, 2010-2011, 2013, 2014, 2016-20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6" descr="ДВ_обложка_1год-тетрадь_провер-2019_20пр.jpg"/>
          <p:cNvPicPr/>
          <p:nvPr/>
        </p:nvPicPr>
        <p:blipFill>
          <a:blip r:embed="rId1"/>
          <a:stretch/>
        </p:blipFill>
        <p:spPr>
          <a:xfrm>
            <a:off x="5580000" y="1825560"/>
            <a:ext cx="28796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0652-D6BB-4957-92BE-D5EC4310E8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ждая из 15-ти проверочных работ содержит 16 вопросов (заданий), рассчитана на 10-1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8C90-8DFF-43C8-835E-952AC4ECD3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Первый год обучения. 1500 малофигурных позиций» (2012, 2016, 2017, 201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мечани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ервоначальное название задачника - «Шахматы, первый год. Задачник, мат в один ход. 1500 малофигурных позиций» (2006-2007, 2009, 201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ДВ_обложка_1год-задачник2019_20пр.jpg"/>
          <p:cNvPicPr/>
          <p:nvPr/>
        </p:nvPicPr>
        <p:blipFill>
          <a:blip r:embed="rId1"/>
          <a:stretch/>
        </p:blipFill>
        <p:spPr>
          <a:xfrm>
            <a:off x="5483160" y="1916280"/>
            <a:ext cx="2976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1891-BCF0-4B24-8969-62D5B9B712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«Шахматы - школ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6781680" y="3618000"/>
            <a:ext cx="234324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Сухин_Шахматы_1год_учебник2017_1часть20пр.jpg"/>
          <p:cNvPicPr/>
          <p:nvPr/>
        </p:nvPicPr>
        <p:blipFill>
          <a:blip r:embed="rId2"/>
          <a:stretch/>
        </p:blipFill>
        <p:spPr>
          <a:xfrm>
            <a:off x="2178000" y="3621240"/>
            <a:ext cx="2394000" cy="3236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Сухин_Шахматы_2год_учебник2017_1часть20пр.jpg"/>
          <p:cNvPicPr/>
          <p:nvPr/>
        </p:nvPicPr>
        <p:blipFill>
          <a:blip r:embed="rId3"/>
          <a:stretch/>
        </p:blipFill>
        <p:spPr>
          <a:xfrm>
            <a:off x="4541760" y="538200"/>
            <a:ext cx="2262240" cy="3106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108000" y="623880"/>
            <a:ext cx="2087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42CE-3D44-46BC-9407-EC8218F1AB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ение объявить противнику мат – основа шахматного искусства. Однако в море шахматной литературы незаслуженно забытой оказалась важнейшая ступень обучения – задачи на мат в один ход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задачник включён материал, соответствующий Программе «Шахматы, первый год», учебнику  для школьников «Шахматы, первый год, или Там клетки чёрно-белые чудес и тайн полны» и пособию для учителя «Шахматы, первый год, или Учусь и учу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сборнике 1500 задач: 1242 чётко структурированные трёх-, четырёх- и пятифигурные позиции-схемы, охватывающие все типичные матовые конструкции для данного количества фигур и практикум из 258 учебных положений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D538-AB38-46B3-91F1-D621676E74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второ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второ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5, №8) и «Вестник образования» (1995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втор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2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E324-ED72-4802-94DA-B41B886CBA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916280"/>
            <a:ext cx="3416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Учебник для начальной школы, второй год обучения» (2003, 2007, 2008-2009, 2011, 2014, 2017, 2019).  С 2008 года издаётся в двух част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6" descr="Сухин_Шахматы_2год_учебник2017_1часть20пр.jpg"/>
          <p:cNvPicPr/>
          <p:nvPr/>
        </p:nvPicPr>
        <p:blipFill>
          <a:blip r:embed="rId1"/>
          <a:stretch/>
        </p:blipFill>
        <p:spPr>
          <a:xfrm>
            <a:off x="3276720" y="2335320"/>
            <a:ext cx="2735280" cy="3757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Сухин_Шахматы_2год_учебник2017_2часть_20пр.jpg"/>
          <p:cNvPicPr/>
          <p:nvPr/>
        </p:nvPicPr>
        <p:blipFill>
          <a:blip r:embed="rId2"/>
          <a:stretch/>
        </p:blipFill>
        <p:spPr>
          <a:xfrm>
            <a:off x="6284880" y="2349360"/>
            <a:ext cx="27511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549C-CC90-4429-B34D-1DDBE395EE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ом «Шахматы, первый год, или Там клетки чёрно-белые чудес и тайн полны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второго класса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второй год, или Играем и выигрываем» разработано методическое пособие для учителя (и родителей) «Шахматы: второй год, или Учусь и учу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1D82-D0D5-418A-9C10-EAEE69EA33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второй год, или Учусь и учу» (2004, 2008, 2012, 20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1"/>
          <a:stretch/>
        </p:blipFill>
        <p:spPr>
          <a:xfrm>
            <a:off x="5334120" y="2057400"/>
            <a:ext cx="27954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A075-7A12-4517-9609-59F8607E94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данном пособии объясняется, как учителю с минимальной шахматной подготовкой проводить занятия с учениками второго года обучения по учебнику «Шахматы, второй год, или Играем и выигрываем». Пособие будет интересно и родителям, помогающим своим детям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, сделаны необходимые разъяснени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детально описывается каждый из 33 уроков, приводится большая часть заданий из учебника с решениям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8EC3-9DB5-4367-8116-69DA438135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916280"/>
            <a:ext cx="3558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1» (2005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2» (2006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1"/>
          <a:stretch/>
        </p:blipFill>
        <p:spPr>
          <a:xfrm>
            <a:off x="3851280" y="267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ДВ_Рабтетрадь_2класс_2часть_20пр.jpg"/>
          <p:cNvPicPr/>
          <p:nvPr/>
        </p:nvPicPr>
        <p:blipFill>
          <a:blip r:embed="rId2"/>
          <a:stretch/>
        </p:blipFill>
        <p:spPr>
          <a:xfrm>
            <a:off x="6516720" y="2678040"/>
            <a:ext cx="2448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E6BA-66D2-4E21-AAD5-6C069B47C8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второй год», учебнику  для школьников «Шахматы, второй год, или Играем и выигрываем» и пособию для учителя «Шахматы, второй год, или Учусь и уч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второго года обучения в любом классе начальной школы. В случае применения тетрадей в первом классе не обязательно выполнять задания, связанные с использованием шахматной нотации и записью, а решения большей части задач можно показывать только стрел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0743-15D8-4BCF-9993-129B83F931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Тетрадь для проверочных работ» (2008, 2013, 2015, 201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9" descr="D:\Мои документы\Мои рисунки\Новые фото книг\ДВ_2год_провер30.jpg"/>
          <p:cNvPicPr/>
          <p:nvPr/>
        </p:nvPicPr>
        <p:blipFill>
          <a:blip r:embed="rId1"/>
          <a:stretch/>
        </p:blipFill>
        <p:spPr>
          <a:xfrm>
            <a:off x="5076720" y="1974960"/>
            <a:ext cx="25909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8119-84E1-4FAB-85C2-12212D2992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второ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780C-BA3B-4742-BA96-0A31D50A09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60-е годы ХХ века было установлено, что </a:t>
            </a:r>
            <a:r>
              <a:rPr b="1" i="1" lang="ru-RU" sz="2200" spc="-1" strike="noStrike">
                <a:solidFill>
                  <a:srgbClr val="00cc99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9808-4865-42E8-9192-920C86845E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Второй год обучения» (2012, 2015, 20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D:\Мои документы\Задачник_2_год_25пр.jpg"/>
          <p:cNvPicPr/>
          <p:nvPr/>
        </p:nvPicPr>
        <p:blipFill>
          <a:blip r:embed="rId1"/>
          <a:stretch/>
        </p:blipFill>
        <p:spPr>
          <a:xfrm>
            <a:off x="5003640" y="1887480"/>
            <a:ext cx="30099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E0E8-785C-460D-A13E-3BD2969F90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трети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трети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7, №10) и Образование» (1998, №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Интернете программа третьего года обучения расположена по адрес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chess555.narod.ru/3god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http://suhin.narod.ru/chessprogr3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49EF-76FE-49C2-93E7-84732E8794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844280"/>
            <a:ext cx="3271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Учебник для начальной школы, третий год обучения: В 2-х частях» (2008, 2014, 2018, 201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3564000" y="2525760"/>
            <a:ext cx="2525760" cy="34956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ДВ_3год_учебник_Ч2_20пр.jpg"/>
          <p:cNvPicPr/>
          <p:nvPr/>
        </p:nvPicPr>
        <p:blipFill>
          <a:blip r:embed="rId2"/>
          <a:stretch/>
        </p:blipFill>
        <p:spPr>
          <a:xfrm>
            <a:off x="6432480" y="2492280"/>
            <a:ext cx="2562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08FE-956C-47D3-8F4B-971FC63C77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ами «Шахматы, первый год, или Там клетки чёрно-белые чудес и тайн полны» и «Шахматы, второй год, или Играем и выигрываем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третьего класса начальной школы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третий год, или Тайны королевской игры» разработано методическое пособие для учителя (и родителей) «Шахматы, трети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D86E-6967-413E-83A8-787511E84E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Учусь и учу» (2009, 2013, 20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D:\Мои документы\Уучь и учу 3 год25пр.jpg"/>
          <p:cNvPicPr/>
          <p:nvPr/>
        </p:nvPicPr>
        <p:blipFill>
          <a:blip r:embed="rId1"/>
          <a:stretch/>
        </p:blipFill>
        <p:spPr>
          <a:xfrm>
            <a:off x="5181480" y="1981080"/>
            <a:ext cx="284652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1D31-E6E5-4D19-B93D-AE2A470734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бъясняется, как учителю с минимальной шахматной подготовкой проводить занятия с учениками третьего года обучения по учебнику «Шахматы, третий год, или Тайны королевской игры». Самое серьёзное внимание уделяется нестандартным занимательным заданиям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обие будет полезно и родителям, помогающим своим детям 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 и «Шахматы, второй год», сделаны необходимые разъяснения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писывается каждый из 66 уроков, приводится большая часть заданий из учебника с решениям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4256-2AE5-4C2F-AEEF-0A5B430FF6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920" y="1980720"/>
            <a:ext cx="34210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1» (2010, 2012, 2014-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2» (2010, 2012, 2014, 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1"/>
          <a:stretch/>
        </p:blipFill>
        <p:spPr>
          <a:xfrm>
            <a:off x="3419640" y="2359080"/>
            <a:ext cx="2736720" cy="3516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ДВ_3год_Рабочаятетрадь2Ч-25пр.jpg"/>
          <p:cNvPicPr/>
          <p:nvPr/>
        </p:nvPicPr>
        <p:blipFill>
          <a:blip r:embed="rId2"/>
          <a:stretch/>
        </p:blipFill>
        <p:spPr>
          <a:xfrm>
            <a:off x="6291360" y="2349360"/>
            <a:ext cx="2673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4195-8C0E-4938-AF46-90957E2087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третьего года обучения в любом классе начальн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57FA-FFB5-4B60-A674-4C6F6FF6CB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3456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Тетрадь для проверочных работ» (2011, 2013, 2014, 201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D:\Мои документы\Проверочная тетрадь3год25пр.jpg"/>
          <p:cNvPicPr/>
          <p:nvPr/>
        </p:nvPicPr>
        <p:blipFill>
          <a:blip r:embed="rId1"/>
          <a:stretch/>
        </p:blipFill>
        <p:spPr>
          <a:xfrm>
            <a:off x="4984920" y="1916280"/>
            <a:ext cx="2827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F105-E9A2-425B-9166-9582C7CDBC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третье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184B-D8A3-48E1-9959-BE548B21F0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вается в младшем возрасте, но в общеизвестных системах обучения она целенаправленно не формируется. По этой причин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0FC3-ECBD-460E-A1AE-780F51FF29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Третий год обучения» (20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5076720" y="1909800"/>
          <a:ext cx="3024360" cy="43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09800"/>
                    <a:ext cx="302436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0E5D-3975-4B72-8B80-C6696CB2E5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дачник третьего года обучения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езентацию подготовил в 2010 году: И.Г.Сухин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ррекция от 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09.2019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41D8-7AB2-4946-93F4-E142E8396E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Рабочие програм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 – школе. Рабочие програм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-4 годы обучения (20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5" descr="Рабочие_программы_Шахматы-школе2019-450кб_40пр.jpg"/>
          <p:cNvPicPr/>
          <p:nvPr/>
        </p:nvPicPr>
        <p:blipFill>
          <a:blip r:embed="rId1"/>
          <a:stretch/>
        </p:blipFill>
        <p:spPr>
          <a:xfrm>
            <a:off x="4754520" y="1494000"/>
            <a:ext cx="327348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2E46-341B-44E1-A881-A95B36915D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33336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курса "Шахматы – школе" реализуют системно-деятельностный подход и разработаны в соответствии с требованиями Федерального государственного образовательного стандарта начального общего образования и основной образовательной программы начального общего образова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адресованы в первую очередь учителям общеобразовательных организаций и ориентированы на достижение значимой для начальной школы цели – развития у детей фундаментальной способности действовать "в уме" с использованием инновационной здоровьесберегающей шахматно-задачной технологии обучения и системы занимательных дидактических заданий и игр. При реализации данных программ формируются широкие межпредметные связи с основными дисциплинами нача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учный подход, заложенный в программах курса "Шахматы – школе", обеспечил России ряд приоритетов в области шахматного образ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895E-CA49-4AA2-8B07-C96BA3EE9F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Федеральный курс «Шахматы – школе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в себя следующие учебно-методические комплекты (УМК) :  УМК «Шахматы, первый год», УМК «Шахматы, второй год», УМК «Шахматы, третий год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первый год» входят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ограмма «Шахматы, первый год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-3. Учебник «Шахматы, первый год, или Там клетки чёрно-белые чудес и тайн полны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первый год, или Учусь и учу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первый год, или Там клетки чёрно-белые чудес и тайн полны: Рабочая тетрадь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первый год, или Там клетки чёрно-белые чудес и тайн полны: Тетрадь для проверочных работ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. Первый год обучения. 1500 малофигурных позиц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F0B2-544E-4E47-93AA-CEB223B5B3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второ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второ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второй год, или Играем и выигрываем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второй год, или Учусь и учу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второй год, или Играем и выигрываем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второй год, или Играем и выигрываем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Второ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трети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трети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третий год, или Тайны королевской игры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третий год, или Учусь и уч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третий год, или Тайны королевской игры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третий год, или Тайны королевской игры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Трети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B532-A033-4F00-8419-124002BE2A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026" descr="D:\Мои документы\1god_progr.jpg"/>
          <p:cNvPicPr/>
          <p:nvPr/>
        </p:nvPicPr>
        <p:blipFill>
          <a:blip r:embed="rId1"/>
          <a:stretch/>
        </p:blipFill>
        <p:spPr>
          <a:xfrm>
            <a:off x="1547640" y="1916280"/>
            <a:ext cx="6110640" cy="4425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00"/>
                </a:solidFill>
                <a:latin typeface="Times New Roman"/>
              </a:rPr>
              <a:t>Программы курс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0:28:55Z</dcterms:created>
  <dc:creator>suhin</dc:creator>
  <dc:description/>
  <dc:language>en-US</dc:language>
  <cp:lastModifiedBy>home</cp:lastModifiedBy>
  <dcterms:modified xsi:type="dcterms:W3CDTF">2019-09-08T07:59:59Z</dcterms:modified>
  <cp:revision>363</cp:revision>
  <dc:subject/>
  <dc:title>И.Г.Сухин</dc:title>
</cp:coreProperties>
</file>