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1C8-C8B5-4255-B507-5E052084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A8C-A838-4136-B50F-E3A029A3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D3B-1E07-454E-BDE1-2E3805CF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24C-DB44-4B9B-8697-1955D57D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AFB-258D-4127-B836-60819B83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656-B5A5-4607-80DC-1E9F4CBE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DC8-4689-4096-BB65-F2A98E03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454-33E0-4E5B-A050-71BC9033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AA7-C6CD-4596-87A3-1220C3D6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4DB-91AE-4CA6-85FA-72984126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77D6-F9DC-44A1-88CB-FB002BAF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A73C-C555-4B3D-BF73-A994E97B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A81C-86D7-4597-B5D2-995509C95A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22DA-831B-4CE8-B646-F589B97C18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42160" cy="3384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 «ШАХМАТЫ – ШКОЛЕ»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1994 – 201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9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Издатель: учебно-методическое объединение «Духовное возрождение»,  г. Обнин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005000"/>
            <a:ext cx="6400800" cy="216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Автор: И.Г.Сухин, Институт стратегии развития образования РАО, </a:t>
            </a: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г. Мос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6BC5-5B57-42D9-B07E-758E28A879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первы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первы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4, №9) и «Вестник образования» (1994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 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перв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1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1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D4C4-4E68-4D74-AD48-305BBB86AD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Учебник для начальной школы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2060280"/>
            <a:ext cx="324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Учебник для начальной школы, первый год обучения» (1998, 2009, 2011-2012, 2014, 2017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018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 2009 г. издаётся в двух частя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6" descr="Сухин_Шахматы_1год_учебник2017_1часть20пр.jpg"/>
          <p:cNvPicPr/>
          <p:nvPr/>
        </p:nvPicPr>
        <p:blipFill>
          <a:blip r:embed="rId1"/>
          <a:stretch/>
        </p:blipFill>
        <p:spPr>
          <a:xfrm>
            <a:off x="3564000" y="2374920"/>
            <a:ext cx="2644560" cy="35751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Сухин_Шахматы_1год_учебник2017_2часть20пр.jpg"/>
          <p:cNvPicPr/>
          <p:nvPr/>
        </p:nvPicPr>
        <p:blipFill>
          <a:blip r:embed="rId2"/>
          <a:stretch/>
        </p:blipFill>
        <p:spPr>
          <a:xfrm>
            <a:off x="6372360" y="2349360"/>
            <a:ext cx="2636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C72D-57DC-4012-9738-3AE117B94D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ый в мировой практике учебник  шахматной игры, написанный специально для начальной общеобразовате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 содержит самый элементарный шахматный материал, который закрепляется большим количеством уникальных дидактических игр и задани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смотря на то, что учебник создавался для первого класса начальной школы, его можно использовать на начальном этапе обучения и в других классах школы 1-й ступени, а также в подготовительной к школе группе детского сада. Это обеспечивается тем, что в каждом типе дидактических заданий и игр есть задачи разного уровня сложност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входит в учебно-методический комплект «Шахматы, первый год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AC84-4AA9-4D7D-BEDB-10BCC15427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Учусь и учу» (1999, 2011, 2015, 201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Рисунок 5" descr="ДВ_обложка_1год-пособие-2019_20пр.jpg"/>
          <p:cNvPicPr/>
          <p:nvPr/>
        </p:nvPicPr>
        <p:blipFill>
          <a:blip r:embed="rId1"/>
          <a:stretch/>
        </p:blipFill>
        <p:spPr>
          <a:xfrm>
            <a:off x="5410080" y="1916280"/>
            <a:ext cx="28339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BA91-6DE8-4932-8A12-CB34133B18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книга</a:t>
            </a:r>
            <a:r>
              <a:rPr b="1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ое в мировой практике шахматное пособие для учителей начальных классов, не обладающих большими знаниями в области шахмат. Данное пособие разработано к учебнику для первого года обучения «Шахматы, первый год, или Там клетки черно-белые чудес и тайн полны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подробно изложена методика проведения каждого урок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В начале каждой главы-урока учителю объясняются необходимые шахматные сведения. Обилие в пособии занимательных заданий, увлекательных дидактических игр позволит педагогу сделать каждое занятие праздником для ребя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адресована учителям начальных классов, воспитателям подготовительных групп детского сада, тренерам-преподавателям, а также родителя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7CF6-BDE6-4D69-B130-4B3803296B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352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1» (2004, 200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3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2» (200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4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5" descr="Сухин_Шахматы_1год_рабтетрадь2017_1часть15пр.jpg"/>
          <p:cNvPicPr/>
          <p:nvPr/>
        </p:nvPicPr>
        <p:blipFill>
          <a:blip r:embed="rId1"/>
          <a:stretch/>
        </p:blipFill>
        <p:spPr>
          <a:xfrm>
            <a:off x="3551400" y="2708280"/>
            <a:ext cx="2525400" cy="3475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Сухин_Шахматы_1год_рабтетрадь2017_2часть15пр.jpg"/>
          <p:cNvPicPr/>
          <p:nvPr/>
        </p:nvPicPr>
        <p:blipFill>
          <a:blip r:embed="rId2"/>
          <a:stretch/>
        </p:blipFill>
        <p:spPr>
          <a:xfrm>
            <a:off x="6372360" y="2698920"/>
            <a:ext cx="25207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C595-4C59-479C-9D2B-C16A4A60E2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первый год», учебнику  «Шахматы, первый год, или Там клетки чёрно-белые чудес и тайн полны», пособию для учителя «Шахматы, первы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796B-0AAB-4637-889F-DFF84338B1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Тетрадь для проверочных работ» (2005-2006, 2008, 2010-2011, 2013, 2014, 2016-201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6" descr="ДВ_обложка_1год-тетрадь_провер-2019_20пр.jpg"/>
          <p:cNvPicPr/>
          <p:nvPr/>
        </p:nvPicPr>
        <p:blipFill>
          <a:blip r:embed="rId1"/>
          <a:stretch/>
        </p:blipFill>
        <p:spPr>
          <a:xfrm>
            <a:off x="5580000" y="1825560"/>
            <a:ext cx="28796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C68F-828B-4A98-8E12-7F0374E083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ждая из 15-ти проверочных работ содержит 16 вопросов (заданий), рассчитана на 10-1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B05D-E08C-4F10-840B-F8143315C3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Первый год обучения. 1500 малофигурных позиций» (2012, 2016, 2017, 201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мечание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ервоначальное название задачника - «Шахматы, первый год. Задачник, мат в один ход. 1500 малофигурных позиций» (2006-2007, 2009, 201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5" descr="ДВ_обложка_1год-задачник2019_20пр.jpg"/>
          <p:cNvPicPr/>
          <p:nvPr/>
        </p:nvPicPr>
        <p:blipFill>
          <a:blip r:embed="rId1"/>
          <a:stretch/>
        </p:blipFill>
        <p:spPr>
          <a:xfrm>
            <a:off x="5483160" y="1916280"/>
            <a:ext cx="2976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C084-1BEB-4C56-A798-A90DCDE297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r>
              <a:rPr b="1" lang="en-U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«Шахматы - школ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6781680" y="3618000"/>
            <a:ext cx="2343240" cy="3240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Сухин_Шахматы_1год_учебник2017_1часть20пр.jpg"/>
          <p:cNvPicPr/>
          <p:nvPr/>
        </p:nvPicPr>
        <p:blipFill>
          <a:blip r:embed="rId2"/>
          <a:stretch/>
        </p:blipFill>
        <p:spPr>
          <a:xfrm>
            <a:off x="2178000" y="3621240"/>
            <a:ext cx="2394000" cy="32367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Сухин_Шахматы_2год_учебник2017_1часть20пр.jpg"/>
          <p:cNvPicPr/>
          <p:nvPr/>
        </p:nvPicPr>
        <p:blipFill>
          <a:blip r:embed="rId3"/>
          <a:stretch/>
        </p:blipFill>
        <p:spPr>
          <a:xfrm>
            <a:off x="4541760" y="538200"/>
            <a:ext cx="2262240" cy="3106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108000" y="623880"/>
            <a:ext cx="2087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92BB-8DB2-4515-AF35-B947C2E9E6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мение объявить противнику мат – основа шахматного искусства. Однако в море шахматной литературы незаслуженно забытой оказалась важнейшая ступень обучения – задачи на мат в один ход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задачник включён материал, соответствующий Программе «Шахматы, первый год», учебнику  для школьников «Шахматы, первый год, или Там клетки чёрно-белые чудес и тайн полны» и пособию для учителя «Шахматы, первый год, или Учусь и учу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сборнике 1500 задач: 1242 чётко структурированные трёх-, четырёх- и пятифигурные позиции-схемы, охватывающие все типичные матовые конструкции для данного количества фигур и практикум из 258 учебных положений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6D39-E883-47CF-80F1-2DFC73FDE7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второ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второ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5, №8) и «Вестник образования» (1995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втор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2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2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3AFC-0C23-412E-AD83-A018C77C6F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960" y="1916280"/>
            <a:ext cx="3416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Учебник для начальной школы, второй год обучения» (2003, 2007, 2008-2009, 2011, 2014, 2017, 2019).  С 2008 года издаётся в двух част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6" descr="Сухин_Шахматы_2год_учебник2017_1часть20пр.jpg"/>
          <p:cNvPicPr/>
          <p:nvPr/>
        </p:nvPicPr>
        <p:blipFill>
          <a:blip r:embed="rId1"/>
          <a:stretch/>
        </p:blipFill>
        <p:spPr>
          <a:xfrm>
            <a:off x="3276720" y="2335320"/>
            <a:ext cx="2735280" cy="3757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Сухин_Шахматы_2год_учебник2017_2часть_20пр.jpg"/>
          <p:cNvPicPr/>
          <p:nvPr/>
        </p:nvPicPr>
        <p:blipFill>
          <a:blip r:embed="rId2"/>
          <a:stretch/>
        </p:blipFill>
        <p:spPr>
          <a:xfrm>
            <a:off x="6284880" y="2349360"/>
            <a:ext cx="27511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95D2-CE42-4E64-B238-1423104C58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ом «Шахматы, первый год, или Там клетки чёрно-белые чудес и тайн полны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второго класса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второй год, или Играем и выигрываем» разработано методическое пособие для учителя (и родителей) «Шахматы: второй год, или Учусь и учу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62BA-4CB4-4AED-833B-834D1FF350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второй год, или Учусь и учу» (2004, 2008, 2012, 20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1"/>
          <a:stretch/>
        </p:blipFill>
        <p:spPr>
          <a:xfrm>
            <a:off x="5334120" y="2057400"/>
            <a:ext cx="27954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BAB4-016A-408C-A636-FBF7C6B245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данном пособии объясняется, как учителю с минимальной шахматной подготовкой проводить занятия с учениками второго года обучения по учебнику «Шахматы, второй год, или Играем и выигрываем». Пособие будет интересно и родителям, помогающим своим детям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, сделаны необходимые разъяснения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детально описывается каждый из 33 уроков, приводится большая часть заданий из учебника с решениям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CE87-6D4A-4E4F-A66D-251E9D6D33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320" y="1916280"/>
            <a:ext cx="3558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1» (2005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2» (2006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1"/>
          <a:stretch/>
        </p:blipFill>
        <p:spPr>
          <a:xfrm>
            <a:off x="3851280" y="2673360"/>
            <a:ext cx="2449440" cy="3348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ДВ_Рабтетрадь_2класс_2часть_20пр.jpg"/>
          <p:cNvPicPr/>
          <p:nvPr/>
        </p:nvPicPr>
        <p:blipFill>
          <a:blip r:embed="rId2"/>
          <a:stretch/>
        </p:blipFill>
        <p:spPr>
          <a:xfrm>
            <a:off x="6516720" y="2678040"/>
            <a:ext cx="2448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D58D-9F73-4F11-9422-FB1CFC2916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второй год», учебнику  для школьников «Шахматы, второй год, или Играем и выигрываем» и пособию для учителя «Шахматы, второй год, или Учусь и учу»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второго года обучения в любом классе начальной школы. В случае применения тетрадей в первом классе не обязательно выполнять задания, связанные с использованием шахматной нотации и записью, а решения большей части задач можно показывать только стрел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82CE-A3C1-4A7F-840C-77C1AEA23E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Тетрадь для проверочных работ» (2008, 2013, 2015, 201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9" descr="D:\Мои документы\Мои рисунки\Новые фото книг\ДВ_2год_провер30.jpg"/>
          <p:cNvPicPr/>
          <p:nvPr/>
        </p:nvPicPr>
        <p:blipFill>
          <a:blip r:embed="rId1"/>
          <a:stretch/>
        </p:blipFill>
        <p:spPr>
          <a:xfrm>
            <a:off x="5076720" y="1974960"/>
            <a:ext cx="25909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0F72-B448-4051-A8ED-2B87D917B6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второ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F8BC-A3CA-4B3C-8AE5-420C9EC329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60-е годы ХХ века было установлено, что </a:t>
            </a:r>
            <a:r>
              <a:rPr b="1" i="1" lang="ru-RU" sz="2200" spc="-1" strike="noStrike">
                <a:solidFill>
                  <a:srgbClr val="00cc99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FA10-2106-4CA4-B8ED-A788F2E98F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Второй год обучения» (2012, 2015, 20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D:\Мои документы\Задачник_2_год_25пр.jpg"/>
          <p:cNvPicPr/>
          <p:nvPr/>
        </p:nvPicPr>
        <p:blipFill>
          <a:blip r:embed="rId1"/>
          <a:stretch/>
        </p:blipFill>
        <p:spPr>
          <a:xfrm>
            <a:off x="5003640" y="1887480"/>
            <a:ext cx="30099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DAD4-C616-4BC0-9292-C0721E077F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трети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трети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7, №10) и Образование» (1998, №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Интернете программа третьего года обучения расположена по адрес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://chess555.narod.ru/3god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http://suhin.narod.ru/chessprogr3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F05D-87FD-4BBE-8E6B-9F5DB61275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20" y="1844280"/>
            <a:ext cx="3271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Учебник для начальной школы, третий год обучения: В 2-х частях» (2008, 2014, 2018, 201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3564000" y="2525760"/>
            <a:ext cx="2525760" cy="34956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ДВ_3год_учебник_Ч2_20пр.jpg"/>
          <p:cNvPicPr/>
          <p:nvPr/>
        </p:nvPicPr>
        <p:blipFill>
          <a:blip r:embed="rId2"/>
          <a:stretch/>
        </p:blipFill>
        <p:spPr>
          <a:xfrm>
            <a:off x="6432480" y="2492280"/>
            <a:ext cx="2562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5AC1-BD65-4456-B2D6-13E401C35C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ами «Шахматы, первый год, или Там клетки чёрно-белые чудес и тайн полны» и «Шахматы, второй год, или Играем и выигрываем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третьего класса начальной школы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третий год, или Тайны королевской игры» разработано методическое пособие для учителя (и родителей) «Шахматы, трети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9288-8F64-45A1-ABEC-C9534C37E9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Учусь и учу» (2009, 2013, 20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D:\Мои документы\Уучь и учу 3 год25пр.jpg"/>
          <p:cNvPicPr/>
          <p:nvPr/>
        </p:nvPicPr>
        <p:blipFill>
          <a:blip r:embed="rId1"/>
          <a:stretch/>
        </p:blipFill>
        <p:spPr>
          <a:xfrm>
            <a:off x="5181480" y="1981080"/>
            <a:ext cx="284652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0234-879B-48F5-918B-32B47F1B2A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бъясняется, как учителю с минимальной шахматной подготовкой проводить занятия с учениками третьего года обучения по учебнику «Шахматы, третий год, или Тайны королевской игры». Самое серьёзное внимание уделяется нестандартным занимательным заданиям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собие будет полезно и родителям, помогающим своим детям 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 и «Шахматы, второй год», сделаны необходимые разъяснения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писывается каждый из 66 уроков, приводится большая часть заданий из учебника с решениями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3DE0-7F19-4571-B40C-8A49A6F75D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920" y="1980720"/>
            <a:ext cx="34210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1» (2010, 2012, 2014-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2» (2010, 2012, 2014, 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1"/>
          <a:stretch/>
        </p:blipFill>
        <p:spPr>
          <a:xfrm>
            <a:off x="3419640" y="2359080"/>
            <a:ext cx="2736720" cy="3516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ДВ_3год_Рабочаятетрадь2Ч-25пр.jpg"/>
          <p:cNvPicPr/>
          <p:nvPr/>
        </p:nvPicPr>
        <p:blipFill>
          <a:blip r:embed="rId2"/>
          <a:stretch/>
        </p:blipFill>
        <p:spPr>
          <a:xfrm>
            <a:off x="6291360" y="2349360"/>
            <a:ext cx="2673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449D-D0B3-4BFB-97A4-63757A87A3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третьего года обучения в любом классе начальной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6CD5-54B5-4036-867D-BA67E291F1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3456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Тетрадь для проверочных работ» (2011, 2013, 2014, 201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D:\Мои документы\Проверочная тетрадь3год25пр.jpg"/>
          <p:cNvPicPr/>
          <p:nvPr/>
        </p:nvPicPr>
        <p:blipFill>
          <a:blip r:embed="rId1"/>
          <a:stretch/>
        </p:blipFill>
        <p:spPr>
          <a:xfrm>
            <a:off x="4984920" y="1916280"/>
            <a:ext cx="28270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C039-990E-4367-9FF2-F1BDB565F7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третье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D666-40D4-49C2-BCB6-174E99AFBD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вается в младшем возрасте, но в общеизвестных системах обучения она целенаправленно не формируется. По этой причин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A5DF-85EB-44C1-88EE-396090939A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Третий год обучения» (20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6"/>
          <p:cNvGraphicFramePr/>
          <p:nvPr/>
        </p:nvGraphicFramePr>
        <p:xfrm>
          <a:off x="5076720" y="1909800"/>
          <a:ext cx="3024360" cy="43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909800"/>
                    <a:ext cx="3024360" cy="43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6930-56C0-4E87-8734-8527863B00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адачник третьего года обучения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езентацию подготовил в 2010 году: И.Г.Сухин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ррекция от 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09.2019.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DE4B-0B37-41EC-A16A-899F36A001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Рабочие программ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 – школе. Рабочие програм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-4 годы обучения (20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5" descr="Рабочие_программы_Шахматы-школе2019-450кб_40пр.jpg"/>
          <p:cNvPicPr/>
          <p:nvPr/>
        </p:nvPicPr>
        <p:blipFill>
          <a:blip r:embed="rId1"/>
          <a:stretch/>
        </p:blipFill>
        <p:spPr>
          <a:xfrm>
            <a:off x="4754520" y="1494000"/>
            <a:ext cx="327348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92BD-3C8C-4064-B62C-FAA1045626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33336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курса "Шахматы – школе" реализуют системно-деятельностный подход и разработаны в соответствии с требованиями Федерального государственного образовательного стандарта начального общего образования и основной образовательной программы начального общего образован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адресованы в первую очередь учителям общеобразовательных организаций и ориентированы на достижение значимой для начальной школы цели – развития у детей фундаментальной способности действовать "в уме" с использованием инновационной здоровьесберегающей шахматно-задачной технологии обучения и системы занимательных дидактических заданий и игр. При реализации данных программ формируются широкие межпредметные связи с основными дисциплинами нача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учный подход, заложенный в программах курса "Шахматы – школе", обеспечил России ряд приоритетов в области шахматного образова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CD71-B413-4700-88C5-BCD867BF46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Федеральный курс «Шахматы – школе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в себя следующие учебно-методические комплекты (УМК) :  УМК «Шахматы, первый год», УМК «Шахматы, второй год», УМК «Шахматы, третий год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первый год» входят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ограмма «Шахматы, первый год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-3. Учебник «Шахматы, первый год, или Там клетки чёрно-белые чудес и тайн полны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первый год, или Учусь и учу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первый год, или Там клетки чёрно-белые чудес и тайн полны: Рабочая тетрадь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первый год, или Там клетки чёрно-белые чудес и тайн полны: Тетрадь для проверочных работ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. Первый год обучения. 1500 малофигурных позиций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1621-9766-4D5F-9DD4-487448EA72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второ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второ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второй год, или Играем и выигрываем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второй год, или Учусь и учу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второй год, или Играем и выигрываем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второй год, или Играем и выигрываем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Второ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трети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трети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третий год, или Тайны королевской игры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третий год, или Учусь и уч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третий год, или Тайны королевской игры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третий год, или Тайны королевской игры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Трети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EAE2-FA3D-49A3-BEE4-3F73AF83C9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6" name="Picture 1026" descr="D:\Мои документы\1god_progr.jpg"/>
          <p:cNvPicPr/>
          <p:nvPr/>
        </p:nvPicPr>
        <p:blipFill>
          <a:blip r:embed="rId1"/>
          <a:stretch/>
        </p:blipFill>
        <p:spPr>
          <a:xfrm>
            <a:off x="1547640" y="1916280"/>
            <a:ext cx="6110640" cy="44258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8000"/>
                </a:solidFill>
                <a:latin typeface="Times New Roman"/>
              </a:rPr>
              <a:t>Программы курс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0:28:55Z</dcterms:created>
  <dc:creator>suhin</dc:creator>
  <dc:description/>
  <dc:language>en-US</dc:language>
  <cp:lastModifiedBy>home</cp:lastModifiedBy>
  <dcterms:modified xsi:type="dcterms:W3CDTF">2019-09-08T07:59:59Z</dcterms:modified>
  <cp:revision>363</cp:revision>
  <dc:subject/>
  <dc:title>И.Г.Сухин</dc:title>
</cp:coreProperties>
</file>