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5AA1-2112-4261-8C5E-359640E2CF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FDE3-B9C2-46D3-882A-9087FCCA4D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511E-802A-4F09-BDC8-5C76C56B0E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A8AD-B14E-4F91-B86E-CE99C6A648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55C0-8FA6-403E-987E-40DB00FEEB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CDBE-0A29-469B-A337-16C8D10394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963A-20A3-4569-9C6D-64F5687A1C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6E9F-985E-41DC-B131-79D4344854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2016-098A-4A5A-B976-3F8DDD2BF5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6489-701C-48A2-9B6D-D05D4EED04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1A4A-CDBF-4ACF-A530-5CABED07A7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338-E9FC-4AB7-9C9A-AB52EE37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AC4-66E6-45F2-A6E2-8F37E871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D07-2CA2-4D97-85B1-2C1122AC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E4B-9D1A-40F3-8C57-3E7A829D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871-B31D-4E5D-B040-D8DBE86F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10D-A5D5-4BBA-AB4F-1F48E6DB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B07-4F3D-4A7E-9A7B-14E81E28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90B-2CFC-408C-8B9D-165AD973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C88-7454-456D-87DC-37F3F6D4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522-8116-4E23-A90B-7C1A6E0B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043-9D57-4A22-88A8-71D0F22B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5D5-1AFC-49C8-9891-F5D43146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C620-00C7-4915-B060-CB3A34AA9A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.Г.Сухин,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рший научный сотрудник Института стратегии развития образования Российской академии образования, г. Москва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чный подход в курсе «Шахмат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коле» к развитию мышления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15228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26D7-A604-44DE-BF85-DBF493A547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476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курс «Шахматы – школе» опирается н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) культурно-историческую теорию формирования высших психических функций (Л.С. Выготский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теорию о поэтапном формировании умственных действий (П.Я.Гальперин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культурологическую теорию содержания образования (И.Я.Лернер, М.Н.Скаткин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работы о стадиях развития способности действовать “в уме” (Я.А.Пономарёв и др.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новейшие исследования в области нейронаук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BD44-1F9E-4650-BF95-326EC58962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зработка общеобразовательной программы курса шахмат в начальной школ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52120" y="304560"/>
            <a:ext cx="7239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первого года обучения «Шахматы, первый год» курса «Шахматы – школе» впервые опубликована в журналах «Начальная школа» (1994, №9) и «Вестник образования» (1994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второго года обучения «Шахматы, второй год» курса «Шахматы – школе» опубликована в журналах «Начальная школа» (1995, №8) и «Вестник образования» (1995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третьего года обучения «Шахматы, третий год» курса «Шахматы – школе» опубликована в журналах «Начальная школа» (1997, №10) и «Образование» (1998, №4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впервые вышли в 2010 году: И.Г.Сухин «Программы курса «Шахматы – школе»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начальных классов общеобразовательных учреждени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Обнинск: Духовное возрождени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0, 2011, 2013, 2016. – 40 с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2019 годы изданы и рабочие программы кур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D:\Мои документы\Начальная школа 1994_9_15пр.jpg"/>
          <p:cNvPicPr/>
          <p:nvPr/>
        </p:nvPicPr>
        <p:blipFill>
          <a:blip r:embed="rId1"/>
          <a:stretch/>
        </p:blipFill>
        <p:spPr>
          <a:xfrm>
            <a:off x="-7920" y="0"/>
            <a:ext cx="171144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Мои документы\Сухин_Программа30пр.jpg"/>
          <p:cNvPicPr/>
          <p:nvPr/>
        </p:nvPicPr>
        <p:blipFill>
          <a:blip r:embed="rId2"/>
          <a:stretch/>
        </p:blipFill>
        <p:spPr>
          <a:xfrm>
            <a:off x="20520" y="4800600"/>
            <a:ext cx="140184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Мои документы\Презентации конференции в Стамбуле 30-08-2012\Программы 30пр.jpg"/>
          <p:cNvPicPr/>
          <p:nvPr/>
        </p:nvPicPr>
        <p:blipFill>
          <a:blip r:embed="rId3"/>
          <a:stretch/>
        </p:blipFill>
        <p:spPr>
          <a:xfrm>
            <a:off x="0" y="2517840"/>
            <a:ext cx="1432080" cy="2206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7451640" y="4521240"/>
            <a:ext cx="1584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CCD9-8826-44DC-A85D-9905C41871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 Написание курса шахмат для начальной школы.</a:t>
            </a: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906B-6A3D-4E97-AE95-27D1918773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0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4240-0264-4FC7-BBA9-253E9A97E3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. К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о должен преподавать шахматы в начальной школе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A738-8C87-4219-BD14-CC2F97AFD7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2019 году во всех зарубежных странах пришли к пониманию, что преподавать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ахматы в начальных классах должны именно учителя начальных классов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вот в России это поняли ещё в 1993 году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744F-1204-4C84-B548-AB6883D2F3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следует готовить учителей начальных классов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E1C4-2976-462B-9482-A0C50026C4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курсах повышения квалификации, которые должен проводить учёный - автор курс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урсе «Шахматы - школе» подобные занятия проводятся по новой образовательной технологии - «Технологии развития способности действовать “в уме” с использованием шахматного материала» и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Шахматно-задачной технологии И.Г.Сухина».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урсы повышения квалификации: Обнинск: 03-12-2013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курсах И.Г.Сухина слушатели постранично работают с учебником «Шахматы, первый год, или Там клетки чёрно-белые чудес и тайн полны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4" descr="D:\Мои документы\Фото_Обнинск_курсы_03-12-2013\IMAG1240н.jpg"/>
          <p:cNvPicPr/>
          <p:nvPr/>
        </p:nvPicPr>
        <p:blipFill>
          <a:blip r:embed="rId1"/>
          <a:stretch/>
        </p:blipFill>
        <p:spPr>
          <a:xfrm>
            <a:off x="620640" y="152280"/>
            <a:ext cx="7902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3BAE-FF5A-47B7-8270-B90DC9814D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Два парадигмальных подхода к введению шахмат в школьную программу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убежны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в школе»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ссийски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– школе»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1960-е годы Я.А.Пономарёвым было установлено, что </a:t>
            </a:r>
            <a:r>
              <a:rPr b="1" i="1" lang="ru-RU" sz="2200" spc="-1" strike="noStrike">
                <a:solidFill>
                  <a:srgbClr val="339933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способность действовать «в уме» 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способность развивается в младшем возрасте, но в общеизвестных системах обучения она целенаправленно не формируется. По этой причине способность действовать «в уме» 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способность действовать «в уме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 Федеральном курсе «Шахматы – школе» реализована шахматно-задачная технология обучения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«Шахматно-задачная технология» </a:t>
            </a:r>
            <a:br>
              <a:rPr sz="5400"/>
            </a:b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основана на системно-деятельностном подходе.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“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Шахматно-задачная технология” базируется на: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но-исторической теории формирования высших психических функций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ологической теории содержания образования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теории поэтапного формирования умственных действий;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исследованиях способности действовать “в уме”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Важнейшим аспектом обучения педагогов “Шахматно-задачной технологии” является организация 36–80-часовых курсов.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     На курсах 10% учебного времени занимает знакомство с правилами шахмат и 90% – обучение “Шахматно-задачной технологии” проведения уроков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525780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по «Шахматно-задачной технологии» обеспечивает почти 100% положительную мотивацию, потому что технология работы – задачная, и неуспешных нет. Задачи – занимательные, нестандартные, требующие творческого подхода. Во многих из них кажущийся очевидным путь ведет в тупик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Эти задачи одновременно нагружают оба полушария ребенка: и левое, ответственное за развитие логического мышления, и правое, отвечающее за развитие творческого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«Шахматно-задачная технология» разработаны И.Г.Сухиным на базе новейших исследований в нейронауках и прежде всего на органичном сочетании холистической и аналитической систем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ХОЛИЗМ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ристотель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Целое больше, чем сумма его частей»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638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ример проявления холизма в шахматах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2514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адья - 4,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н -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-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&gt; Ладья + Сл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D:\Мои документы\Фото_к_сказке_Оля_и_Добрыня\Белая ладья.JPG"/>
          <p:cNvPicPr/>
          <p:nvPr/>
        </p:nvPicPr>
        <p:blipFill>
          <a:blip r:embed="rId1"/>
          <a:stretch/>
        </p:blipFill>
        <p:spPr>
          <a:xfrm>
            <a:off x="7238880" y="228600"/>
            <a:ext cx="169560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:\Мои документы\Фото_к_сказке_Оля_и_Добрыня\Белый слон50пр.JPG"/>
          <p:cNvPicPr/>
          <p:nvPr/>
        </p:nvPicPr>
        <p:blipFill>
          <a:blip r:embed="rId2"/>
          <a:stretch/>
        </p:blipFill>
        <p:spPr>
          <a:xfrm>
            <a:off x="7315200" y="3581280"/>
            <a:ext cx="1546200" cy="312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D:\Мои документы\Фото_к_сказке_Оля_и_Добрыня\Белый ферзь50пр.JPG"/>
          <p:cNvPicPr/>
          <p:nvPr/>
        </p:nvPicPr>
        <p:blipFill>
          <a:blip r:embed="rId3"/>
          <a:stretch/>
        </p:blipFill>
        <p:spPr>
          <a:xfrm>
            <a:off x="380880" y="2666880"/>
            <a:ext cx="1952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037800" cy="67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иальное отличие подхода, заложенного в курсе «Шахматы – школе», от зарубежных аналог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существуют два взгляда на введение шахмат в школьную программу. Первый из них (антинаучный) характерен для большинства зарубежных стран – «Шахматы в школе». При таком подходе учеников учат играть в шахматы, а развитие мышления выступает как ожидаемый, но побочный результат.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Второй путь – российский– охарактеризован в 1980-е годы академиком Б.С. Гершунским как «Шахматы – школе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нем на уровне целеполагания выявляется все ценное, чем могут быть полезны шахматы для общеобразовательной школы, и на этой основе разрабатывается научно обоснованный курс шахмат. В этом случае шахматы рассматриваются как инструмент развития, и процесс обучения основам шахматной игры выступает как средство для достижения цели. Этот путь в мире пока реализован только в отечественном курсе И.Г.Сухина «Шахматы – школе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67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ссия с 1994 года стала первой страной в мире, где разработан именно НАУЧНО ОБОСНОВАННЫЙ Федеральный курс шахмат "Шахматы – школе", преподавать который призваны учителя начальных классов.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4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5F39-0918-432A-B137-49A10E4FF6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енно в России разработана новая образовательная технология обучения «Технология развития способности действовать “в уме” с использованием шахматного материала» или «Шахматно-задачная технология И.Г.Сухина»</a:t>
            </a:r>
            <a:br>
              <a:rPr sz="32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Задачная технология обучения по здоровьесберегающем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рсу «Шахматы – школе» обеспечивае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ти 100% положительную мотиваци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детей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7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EC7A-11BC-4FCF-BAB2-4EA2760567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3048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Книги И.Г.Сухина издавались не только в РФ, но и за рубежом: в Испании - в 1992 г. с предисловием чемпиона мира Г.Каспарова, в США - в 2007 г. с предисловием чемпиона мира В.Крамника, а в 2008 году с предисловием чемпионки мира Ж.Полгар. В 2011 г. серия из 7 книг И.Г.Сухина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“Chess camp”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 Рекомендована Шахматной федерацией США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0" name="Picture 3" descr="D:\Мои документы\Испания_Виго_Волшебный_шахматный_мешочек25.jpg"/>
          <p:cNvPicPr/>
          <p:nvPr/>
        </p:nvPicPr>
        <p:blipFill>
          <a:blip r:embed="rId1"/>
          <a:stretch/>
        </p:blipFill>
        <p:spPr>
          <a:xfrm>
            <a:off x="152280" y="3747960"/>
            <a:ext cx="2094120" cy="288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:\Мои документы\Мои рисунки\Сухин США.jpg"/>
          <p:cNvPicPr/>
          <p:nvPr/>
        </p:nvPicPr>
        <p:blipFill>
          <a:blip r:embed="rId2"/>
          <a:stretch/>
        </p:blipFill>
        <p:spPr>
          <a:xfrm>
            <a:off x="2514600" y="3746520"/>
            <a:ext cx="1857240" cy="2882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:\Мои документы\Приключения Гарри США15.jpg"/>
          <p:cNvPicPr/>
          <p:nvPr/>
        </p:nvPicPr>
        <p:blipFill>
          <a:blip r:embed="rId3"/>
          <a:stretch/>
        </p:blipFill>
        <p:spPr>
          <a:xfrm>
            <a:off x="4648320" y="3749760"/>
            <a:ext cx="2178000" cy="28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:\Мои документы\Мои рисунки\Новые фотографии книг 2011 год\США Сборник 1-29пр.jpg"/>
          <p:cNvPicPr/>
          <p:nvPr/>
        </p:nvPicPr>
        <p:blipFill>
          <a:blip r:embed="rId4"/>
          <a:stretch/>
        </p:blipFill>
        <p:spPr>
          <a:xfrm>
            <a:off x="7077240" y="3753000"/>
            <a:ext cx="1914480" cy="28764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76320" y="76320"/>
            <a:ext cx="457200" cy="457200"/>
            <a:chOff x="76320" y="76320"/>
            <a:chExt cx="457200" cy="457200"/>
          </a:xfrm>
        </p:grpSpPr>
        <p:sp>
          <p:nvSpPr>
            <p:cNvPr id="135" name="Rectangle 8"/>
            <p:cNvSpPr/>
            <p:nvPr/>
          </p:nvSpPr>
          <p:spPr>
            <a:xfrm>
              <a:off x="76320" y="76320"/>
              <a:ext cx="45720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177120" y="398880"/>
              <a:ext cx="258120" cy="6444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315360" y="252000"/>
              <a:ext cx="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1"/>
            <p:cNvSpPr/>
            <p:nvPr/>
          </p:nvSpPr>
          <p:spPr>
            <a:xfrm>
              <a:off x="140760" y="140400"/>
              <a:ext cx="128880" cy="193680"/>
            </a:xfrm>
            <a:custGeom>
              <a:avLst/>
              <a:gdLst>
                <a:gd name="textAreaLeft" fmla="*/ 52920 w 128880"/>
                <a:gd name="textAreaRight" fmla="*/ 75960 w 1288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351720" y="142200"/>
              <a:ext cx="129240" cy="193680"/>
            </a:xfrm>
            <a:custGeom>
              <a:avLst/>
              <a:gdLst>
                <a:gd name="textAreaLeft" fmla="*/ 53280 w 129240"/>
                <a:gd name="textAreaRight" fmla="*/ 75960 w 12924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13"/>
          <p:cNvGrpSpPr/>
          <p:nvPr/>
        </p:nvGrpSpPr>
        <p:grpSpPr>
          <a:xfrm>
            <a:off x="8528040" y="76320"/>
            <a:ext cx="539640" cy="539640"/>
            <a:chOff x="8528040" y="76320"/>
            <a:chExt cx="539640" cy="539640"/>
          </a:xfrm>
        </p:grpSpPr>
        <p:sp>
          <p:nvSpPr>
            <p:cNvPr id="141" name="Rectangle 14"/>
            <p:cNvSpPr/>
            <p:nvPr/>
          </p:nvSpPr>
          <p:spPr>
            <a:xfrm>
              <a:off x="8528040" y="7632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8646840" y="45720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8810280" y="2840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17"/>
            <p:cNvSpPr/>
            <p:nvPr/>
          </p:nvSpPr>
          <p:spPr>
            <a:xfrm>
              <a:off x="8604000" y="15228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8"/>
            <p:cNvSpPr/>
            <p:nvPr/>
          </p:nvSpPr>
          <p:spPr>
            <a:xfrm>
              <a:off x="8853120" y="1540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Г.Сухиным написано также несколько шахматных книг для детей дошкольного возрас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В 2014 году одна из них - «Шахматы для самых маленьких» - в очередной раз переиздана (под названием «Шахматы для детей»), при этом на обложке издательство «АСТ» указало следующее: «7-ое издание бестселлера».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D:\Мои документы\Фото_Сухин_обложка_Шахматы_для_детей_2014_42кбт.jpg"/>
          <p:cNvPicPr/>
          <p:nvPr/>
        </p:nvPicPr>
        <p:blipFill>
          <a:blip r:embed="rId1"/>
          <a:stretch/>
        </p:blipFill>
        <p:spPr>
          <a:xfrm>
            <a:off x="152280" y="2895480"/>
            <a:ext cx="29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D:\Мои документы\Астрель_Шахматы_для_самых_маленьких25.jpg"/>
          <p:cNvPicPr/>
          <p:nvPr/>
        </p:nvPicPr>
        <p:blipFill>
          <a:blip r:embed="rId2"/>
          <a:stretch/>
        </p:blipFill>
        <p:spPr>
          <a:xfrm>
            <a:off x="3408480" y="2895480"/>
            <a:ext cx="2768400" cy="365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:\Мои документы\Мои рисунки\Мои фотографии\Обложки шахматных книг\Приключения  Шах стране  40пр Р100.jpg"/>
          <p:cNvPicPr/>
          <p:nvPr/>
        </p:nvPicPr>
        <p:blipFill>
          <a:blip r:embed="rId3"/>
          <a:stretch/>
        </p:blipFill>
        <p:spPr>
          <a:xfrm>
            <a:off x="6400800" y="2895480"/>
            <a:ext cx="2700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6"/>
          <p:cNvGrpSpPr/>
          <p:nvPr/>
        </p:nvGrpSpPr>
        <p:grpSpPr>
          <a:xfrm>
            <a:off x="152280" y="2209680"/>
            <a:ext cx="540000" cy="539640"/>
            <a:chOff x="152280" y="2209680"/>
            <a:chExt cx="540000" cy="539640"/>
          </a:xfrm>
        </p:grpSpPr>
        <p:sp>
          <p:nvSpPr>
            <p:cNvPr id="151" name="Rectangle 7"/>
            <p:cNvSpPr/>
            <p:nvPr/>
          </p:nvSpPr>
          <p:spPr>
            <a:xfrm>
              <a:off x="152280" y="2209680"/>
              <a:ext cx="540000" cy="539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271440" y="2590560"/>
              <a:ext cx="304920" cy="763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348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0"/>
            <p:cNvSpPr/>
            <p:nvPr/>
          </p:nvSpPr>
          <p:spPr>
            <a:xfrm>
              <a:off x="228600" y="22856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11"/>
            <p:cNvSpPr/>
            <p:nvPr/>
          </p:nvSpPr>
          <p:spPr>
            <a:xfrm>
              <a:off x="477720" y="2287440"/>
              <a:ext cx="152640" cy="22860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8040" y="2209680"/>
            <a:ext cx="539640" cy="539640"/>
            <a:chOff x="8528040" y="2209680"/>
            <a:chExt cx="539640" cy="539640"/>
          </a:xfrm>
        </p:grpSpPr>
        <p:sp>
          <p:nvSpPr>
            <p:cNvPr id="157" name="Rectangle 13"/>
            <p:cNvSpPr/>
            <p:nvPr/>
          </p:nvSpPr>
          <p:spPr>
            <a:xfrm>
              <a:off x="8528040" y="220968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8646840" y="259056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>
              <a:off x="88102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6"/>
            <p:cNvSpPr/>
            <p:nvPr/>
          </p:nvSpPr>
          <p:spPr>
            <a:xfrm>
              <a:off x="8604000" y="228564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7"/>
            <p:cNvSpPr/>
            <p:nvPr/>
          </p:nvSpPr>
          <p:spPr>
            <a:xfrm>
              <a:off x="8853120" y="22874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Это старая истина - нет пророка в своём отечестве. Поэтому, хотя главный труд </a:t>
            </a:r>
            <a:br>
              <a:rPr sz="2800"/>
            </a:b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 И.Г.Сухина - курс «Шахматы - школе» - был написан по предложению Министерства образования РФ и получил его высший гриф - «Рекомендовано», центральные СМИ об этом никогда не писали. Чтобы войти в широкое информационное поле, нужны огромные усилия. Миром СМИ правит негатив, позитив СМИ неинтересен. Поэтому задача - сделать так, чтобы все дети России стали немного умнее, - пока отдана в руки энтузиастов. К счастью, их в России пока ещё хватает!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3" name="Picture 3" descr="D:\Мои документы\My_site2\Image2.gif"/>
          <p:cNvPicPr/>
          <p:nvPr/>
        </p:nvPicPr>
        <p:blipFill>
          <a:blip r:embed="rId1"/>
          <a:stretch/>
        </p:blipFill>
        <p:spPr>
          <a:xfrm>
            <a:off x="152280" y="5562720"/>
            <a:ext cx="777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.Г.Сухин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5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152280" y="281952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1E91-B818-4CD8-BA79-46E53680A0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«Сайт шахматного всеобуча» (http://chess555.narod.ru)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айт «Избранные</a:t>
            </a: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траницы из книг Игоря Сухина (http://</a:t>
            </a:r>
            <a:r>
              <a:rPr b="1" lang="en-US" sz="4800" spc="-1" strike="noStrike">
                <a:solidFill>
                  <a:srgbClr val="666633"/>
                </a:solidFill>
                <a:latin typeface="Times New Roman"/>
              </a:rPr>
              <a:t>suhin</a:t>
            </a: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.narod.ru)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8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4114800" y="152280"/>
            <a:ext cx="792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666520"/>
            <a:ext cx="8763120" cy="40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Игорь Георгиевич Сухин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Е-мейл: suhin_i@mail.ru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Контактный телефон: 8-499-966-79-48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52280" y="61657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зентацию подготови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20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.Г.Сухи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ррекция 10.09.201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D:\Мои документы\Сухин_отл_ХМАО_11-06-2013_светл.jpg"/>
          <p:cNvPicPr/>
          <p:nvPr/>
        </p:nvPicPr>
        <p:blipFill>
          <a:blip r:embed="rId1"/>
          <a:stretch/>
        </p:blipFill>
        <p:spPr>
          <a:xfrm>
            <a:off x="3505320" y="152280"/>
            <a:ext cx="1930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E326-0E28-4332-BD97-D557AB8AF8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764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рубежный подход «Шахматы в школе» к сентябрю 2019 года реализуется во всех зарубежных учебниках и учебно-методических комплектах (УМК), написанных для начальной школы, и почти во всех отечественных (в том числе в курсах «Шахматы в школе» и «Шахматы в школы»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подход «Шахматы – школе» реализован только в Федеральном здоровьесберегающем  надпредметном курсе «Шахматы – школе»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7929720" y="5029200"/>
            <a:ext cx="113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0A0D-5171-4842-A20F-D5CACC08C7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 Определение базового научнообоснованного целеполагания, ориентированного на решение фундаментальных задач, стоящих перед системой образования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ный отечественный методолог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.Г. Алексеев учил, что невозможно решить общую проблему  (к примеру, развитие мышления) в общем виде – это методологически неверно. Для этого нужно выбрать точную, конкретную цель, правильное направление, и это поможет решить проблему в цело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Поэтому в курсе «Шахматы – школе» цель – поэтапное, нефорсированное развитие у детей способности действовать «в уме», имеющее фундаментальное значение для начальной школы.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5F26-2ADD-4EE3-A381-5BCD98A88B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69608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Гроссмейстер Ю.С.Разуваев: </a:t>
            </a:r>
            <a:br>
              <a:rPr sz="3400"/>
            </a:b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«Просто научить учеников в школе играть в шахматы – это ерунда, а не цель. Пока же, на уроках детей всего лишь учат играть в шахматы, а потом перенаправляют в кружки. Это неправильно. Мы должны достигать значимых для системы образования целей, а это, прежде всего, – развитие способности действовать "в уме"».</a:t>
            </a:r>
            <a:endParaRPr b="0" lang="en-US" sz="3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D:\Мои документы\Разуваев.jpg"/>
          <p:cNvPicPr/>
          <p:nvPr/>
        </p:nvPicPr>
        <p:blipFill>
          <a:blip r:embed="rId1"/>
          <a:stretch/>
        </p:blipFill>
        <p:spPr>
          <a:xfrm>
            <a:off x="152280" y="4800600"/>
            <a:ext cx="1371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9E4D-587C-4878-8F5B-C4FE07C9FB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еполагание российского федерального курса «Шахматы – школе» – чётко структурированное поэтапное развитие у детей  фундаментальной способности действовать «в уме»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48B4-5F8C-4330-883F-C3D93038CE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Разработка научного обоснования для написания курса шахмат в начальной школе.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7:33:04Z</dcterms:created>
  <dc:creator>suhin</dc:creator>
  <dc:description/>
  <dc:language>en-US</dc:language>
  <cp:lastModifiedBy>home</cp:lastModifiedBy>
  <dcterms:modified xsi:type="dcterms:W3CDTF">2019-09-10T17:18:55Z</dcterms:modified>
  <cp:revision>124</cp:revision>
  <dc:subject/>
  <dc:title>Заголовок слайда отсутствует</dc:title>
</cp:coreProperties>
</file>