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393-B3B0-4711-8671-EAB10608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8A7-77A8-448E-8535-9C95A5E2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714-BA9A-4EEB-BB1D-ECA2443E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A31-62EF-4F1A-A619-042A1F53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3C4-81FE-41A3-B889-34E156EE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7AC-E141-493D-9FBF-89C432A3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429-92BF-4EDD-AFFA-324EC21F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377-4E9D-4617-B019-9D2DB195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9A7-97FC-4522-92F0-3B01FC1A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DE9-16E8-47F5-B6EC-EC8C4948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DE8-3271-4610-ABCD-62DAA2BA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58A-D4A9-4C6E-A93C-5D9CB9C0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3B38-9FF3-4F9C-B1B2-EFC079A1A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hess555.narod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 Сухи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о междисциплинарном здоровьесберегающем кур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 – школ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ухин_фото_20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883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урок в начальной школ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тайны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нствен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М.Волкову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ха, юмо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Н.Н.Носову и Э.Н.Успенскому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ый урок курса «Шахматы – школе» одновременно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рок-сказка; 2) урок-театр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рок-дидактическая игра; 4) урок-тайна; 5) урок-удивление; 6) урок-погружение  в мир забавных и занимательных заданий; 7) урок без неуспевающих; 8) урок-сотворчество; 9) урок-здоровьесбере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работы педагога по курсу «Шахматы – школе» составляет организация процесса решения учениками занимательных головоломок, составленных с помощью шахматного материала (шахматных фигур на шахматных досках), и проведение доступных дидактических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ас учитель начальных классов упускает на уроках то, что лежит между условием задачи и ее ответом. Учителя нередко требуют получение правильного ответа, не интересуясь ходом рассуждений учени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и работе по «Шахматно-задачной технологии» ключевым становится именно акцент на ход мыслей ребенка, который привел его к правильным или к неправильным выв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к рассматривается как четко структурированная здоровьесберегающая система решения постепенно усложняющихся занимательных развивающих заданий и организация развивающих дидактиче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доказала, что для учащихся начальных классов шахматные задачи и головоломки курса «Шахматы –  школе» часто оказываются интереснее, чем игра в шахмат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еудивительно, что многочисленные опросы детей, с которыми занимались по «Шахматно-задачной технологии», показали, что урок шахмат нравится почти 100% учеников. Есть мотивация – есть и успеш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что при качественном преподавании курса «Шахматы – школе» большая часть дете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чится на 4 и 5 почти по всем предметам основной школьной программы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) приобретает способность выполнять домашние задания по всем предметам без помощи родител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) в дальнейшем успешно поступает в вуз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езусловно, родителей не может не радовать такая перспект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блуждения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заблуждением является то, что шахматы полезны сами по себе. Это не так – шахматы для системы образ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ё дело исключительно в том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с 2016 года в ряде регионов как грибы стали появляться шахматные учебники, которые стали навязываться системе образования как «школьные».  Работать по ним учителям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этих «школьных» учебника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ная цель – научить детей играть в шахм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учить должны учителя, которые сами не умеют играть и только что получили сертификат на право преподавания (на краткосрочных курсах повышения квалификации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упиковый пу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ти учителя должны всего при одном уроке в неделю научить всех детей именно играть в шахматы?! Большую глупость и придумать трудн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мы говорим о массовой шко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не о педагоге-уникуме! Это ведёт лишь к профанации великой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не учитывается, к примеру, что неопытный учитель не сможет качественно проконтролировать даже одну пару играющих в шахматы на предмет нарушения правил шахматной игры. Особенно, если сделан недопустимый правилами ход (а это будет сплошь и рядом) и т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на курсах повышения квалификации авторы подобных учебников уверяют учителей, что шахматы –  лёгкая игра. Это не так, это –  ложь. Чтобы научиться играть в шахматы даже на мало-мальски приемлемом уровне нужно пуд соли съесть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вот в курсе «Шахматы – школе» с применением «Шахматно-задачной технологии»  всё учте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.08.2019: Министр просвещения РФ Ольга Юрьевна Васильева подтвердила: шахматы, интеллектуальное развитие, аналитическое мышление – взаимосвязанные вещи... И ране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5.02.2019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хматы – это не спорт, это искусство, это наука и творчест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0.01.2017: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что не развивает ребенка так, как шахмат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3.09.2016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уверена, что спорт, шахматы и музыка – это три кита, на которых основывается воспитание гармоничной лич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Васильева_министрПр.jpg"/>
          <p:cNvPicPr/>
          <p:nvPr/>
        </p:nvPicPr>
        <p:blipFill>
          <a:blip r:embed="rId1"/>
          <a:stretch/>
        </p:blipFill>
        <p:spPr>
          <a:xfrm>
            <a:off x="7885080" y="9036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личия курса «Шахматы – школе» от других курс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курс научно обоснован; 2) курс максимально практико-ориентирован; 3) курс – здоровьесберегающий; 4) для курса разработана эффективная технология обучения – шахматно-задачная (включающая комплекс развивающих занимательных заданий и дидактических игр); 5) курс реализуется в двух вариантах: трёхлетний (со 2-го по 4-й классы) и четырехлетний (с 1-го по 4-й классы); 6) курс доступен для учителей с изначально нулевой шахматной подготовкой; 7) курс пронизан межпредметными связями со многими учебными дисциплинами; 8) курс диагностируем, так как способность действовать «в уме» имеет 5 диагностируемых этапов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Второй год обучения. – 3-е изд. – Обнинск: Духовное возрождение, 2016. – 27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Первый год обучения. 1500 малофигурных позиций. – 6-е изд. – Обнинск: Духовное возрождение, 2019. – 272 с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Третий год обучения. – Обнинск: Духовное возрождение, 2014. – 3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Еще раз о концепции федерального курса «Шахматы – школе» // Интеллектуал Зауралья (шахматное образование) – 2016: сборник материалов для участников VI областного фестиваля по шахматам «Папа + Мама + Школа +Я = Шахматная семья». 14 декабря 2016 г. / Курган: Институт развития образования и социальных технологий», 2016. – С. 20- 28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ограммы курса «Шахматы – школе»: Для начальных классов общеобразовательных учреждений. – 4-е изд. – Обнинск: Духовное возрождение, 2016. – 4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1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2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Тетрадь для проверочных работ. – 5-е изд. – Обнинск: Духовное возрождение, 2018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1. – 7-е изд. – Обнинск: Духовное возрождение, 2019. – 8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2. – 7-е изд. – Обнинск: Духовное возрождение, 2019. – 8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Учусь и учу. – 4-е изд. – Обнинск: Духовное возрождение, 2017. – 1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1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2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Тетрадь для проверочных работ. – 7-е изд. – Обнинск: Духовное возрождение, 2018. – 3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1. – 8-е изд. – Обнинск: Духовное возрождение, 2018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2. – 8-е изд. – Обнинск: Духовное возрождение, 2018. – 88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Учусь и учу:  Пособие для учителя. – 4-е изд. – Обнинск: Духовное возрождение, 2019. – 12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1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2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Тетрадь для проверочных работ. – 4-е изд. – Обнинск: Духовное возрождение, 2016. 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1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2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Учусь и учу. – 3-е изд. – Обнинск: Духовное возрождение, 2016. – 224 с.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реальным положением дел по тематике шахматного образования можно познакомиться только в новостях Сайта шахматного всеобуча – на главной странице сайт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hess555.narod.r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917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Сухин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Итал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ухин_фото_20"/>
          <p:cNvPicPr/>
          <p:nvPr/>
        </p:nvPicPr>
        <p:blipFill>
          <a:blip r:embed="rId1"/>
          <a:stretch/>
        </p:blipFill>
        <p:spPr>
          <a:xfrm>
            <a:off x="34920" y="2819520"/>
            <a:ext cx="7920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2280" y="6381720"/>
            <a:ext cx="71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9.2019 И.Г.Сух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2019 года президент Международной шахматной федерации (ФИДЕ) Аркадий Владимирович Дворкович сообщил ТАСС, что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) шахматы должны использовать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 качестве образовательного инструмента в школах для улучшения интеллектуальных способносте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)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шахматы должны использоваться именно как средство образования, а не как обязательная игр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изначально заложено в курсе «Шахматы – школе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зволяет педагогам качественно проводить шахматные занят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Дворкович.jpg"/>
          <p:cNvPicPr/>
          <p:nvPr/>
        </p:nvPicPr>
        <p:blipFill>
          <a:blip r:embed="rId1"/>
          <a:stretch/>
        </p:blipFill>
        <p:spPr>
          <a:xfrm>
            <a:off x="766764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C543-82F1-4854-B869-8D6DE9CFB7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апробирован в большом количестве отечественных регионов и обеспечен всеми необходимыми материал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него входя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чие программы 4-х лет обуче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ебники для учеников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обия для учител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бочие тетради 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тетради для проверочных работ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БЛЕГЧИТЬ РАБОТУ УЧИТЕЛЯ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Ключевая фигура на уроке шахма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Главный аспек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требовать от учителя невозможного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Чтобы не превратить уро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 в профанацию, следует максимально упростить работу педагога, не в ущерб содержа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кольку цель уроков – системное развитие мышления, то преподавать следует по «Шахматно-задачной технологии обучения», легко осваиваемой учителями даже изначально не знающими правил шахматной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аучного подхода «Шахматы – школе» – высветить всё то, что могут подарить шахматы детям, и реализовать в учебном курсе, любимом и детьми, и учителя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шахма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ётко структурированное, поэтапное развитие мышления детей, а процесс обучения шахматным азам – средство, инструмент, фон, на котором протекает развитие. Именно на это ориентирован курс «Шахматы – школе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курсе учтено, что лишь небольшой процент российских учителей начальных классов и воспитателей детских садов умеет играть в шах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– это единая, целостная система – волшебный квадрат «Математика, логика, чтение, русский язык» в сердцевине которого находятся шахм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2590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7621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4120" y="762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34340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10080" y="4343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ЕННО-РЕЧЕВ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16765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2590920" y="1676520"/>
            <a:ext cx="4419360" cy="2904840"/>
            <a:chOff x="2590920" y="1676520"/>
            <a:chExt cx="4419360" cy="2904840"/>
          </a:xfrm>
        </p:grpSpPr>
        <p:sp>
          <p:nvSpPr>
            <p:cNvPr id="76" name="Line 9"/>
            <p:cNvSpPr/>
            <p:nvPr/>
          </p:nvSpPr>
          <p:spPr>
            <a:xfrm flipH="1">
              <a:off x="4571640" y="1676520"/>
              <a:ext cx="2057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590920" y="3362400"/>
              <a:ext cx="198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648320" y="3384720"/>
              <a:ext cx="2361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2:53:19Z</dcterms:created>
  <dc:creator>User PC</dc:creator>
  <dc:description/>
  <dc:language>en-US</dc:language>
  <cp:lastModifiedBy>home</cp:lastModifiedBy>
  <dcterms:modified xsi:type="dcterms:W3CDTF">2019-09-10T19:12:26Z</dcterms:modified>
  <cp:revision>114</cp:revision>
  <dc:subject/>
  <dc:title>Курсы для общеобразовательной школы «Шахматы – школе» и «Шахматы в школе»: их научный уровень и сравнительная характеристика. Июль, 2018 г.</dc:title>
</cp:coreProperties>
</file>